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72C-CBD9-4CF5-86DD-2D25F52F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2514-7C91-44E3-A3F8-C39E01A6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9009-4F19-438E-8BB0-734A32E7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E082-0439-49FE-8C3E-0C6CB137A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FAB8-2C8D-4290-97A6-05CEB596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9D01-B98A-4183-A7B0-B1DF4564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1372-9C01-416F-8F02-7816258F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CD69-E655-439A-BE18-4A4128C3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69C-CA8E-47EA-B123-72EDE7E2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12D-06CC-43FE-8059-03F0794B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DB0-6AF3-4D38-9933-75C7B4B3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1B1F-3162-4D22-B872-75B001B2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4B7B-2F3A-4088-842C-91AA82DCF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66920" y="404640"/>
            <a:ext cx="64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ff"/>
                </a:solidFill>
                <a:latin typeface="ＭＳ Ｐゴシック"/>
              </a:rPr>
              <a:t>ＷｉｎｄｏｗｓＸＰによるＬＥＤの制御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0280"/>
            <a:ext cx="13683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はじめ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1390680"/>
            <a:ext cx="7056360" cy="5218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81520" y="2708280"/>
            <a:ext cx="15541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94520" y="4365720"/>
            <a:ext cx="1964520" cy="276480"/>
          </a:xfrm>
          <a:prstGeom prst="rect">
            <a:avLst/>
          </a:prstGeom>
          <a:solidFill>
            <a:srgbClr val="cc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ll</a:t>
            </a:r>
            <a:r>
              <a:rPr b="1" lang="zh-CN" sz="1200" spc="-1" strike="noStrike">
                <a:solidFill>
                  <a:srgbClr val="000000"/>
                </a:solidFill>
                <a:latin typeface="ＭＳ Ｐゴシック"/>
              </a:rPr>
              <a:t>ファイル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をＷｉｎｄｏｗｓのフォルダーにコピーしてください。　　　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24360" y="4757760"/>
            <a:ext cx="4708440" cy="824040"/>
          </a:xfrm>
          <a:prstGeom prst="rect">
            <a:avLst/>
          </a:prstGeom>
          <a:solidFill>
            <a:srgbClr val="cc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　マクロ機能を有効にする必要があり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　　「ツール」－「マクロ」－「セキュリティ」もしくは、「ツール」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　　「オプション」－「セキュリティ」－「マクロセキュリティ」の操作を行い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　　セキュリティを中に設定してください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19440" y="3009960"/>
            <a:ext cx="304920" cy="1498680"/>
          </a:xfrm>
          <a:custGeom>
            <a:avLst/>
            <a:gdLst/>
            <a:ahLst/>
            <a:rect l="l" t="t" r="r" b="b"/>
            <a:pathLst>
              <a:path w="192" h="1035">
                <a:moveTo>
                  <a:pt x="152" y="0"/>
                </a:moveTo>
                <a:lnTo>
                  <a:pt x="0" y="0"/>
                </a:lnTo>
                <a:lnTo>
                  <a:pt x="0" y="1032"/>
                </a:lnTo>
                <a:lnTo>
                  <a:pt x="192" y="1035"/>
                </a:lnTo>
              </a:path>
            </a:pathLst>
          </a:custGeom>
          <a:noFill/>
          <a:ln cap="rnd" w="28440">
            <a:solidFill>
              <a:srgbClr val="ff0000"/>
            </a:solidFill>
            <a:custDash>
              <a:ds d="100000" sp="1000"/>
            </a:custDash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24360" y="5699160"/>
            <a:ext cx="4708440" cy="459000"/>
          </a:xfrm>
          <a:prstGeom prst="rect">
            <a:avLst/>
          </a:prstGeom>
          <a:solidFill>
            <a:srgbClr val="cc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　各エクセルソフトを開くとき、「マクロを有効にする」を選択してくだ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　　い。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366920" y="404640"/>
            <a:ext cx="64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ff"/>
                </a:solidFill>
                <a:latin typeface="ＭＳ Ｐゴシック"/>
              </a:rPr>
              <a:t>ＷｉｎｄｏｗｓＸＰによるＬＥＤの制御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296" name=""/>
          <p:cNvSpPr/>
          <p:nvPr/>
        </p:nvSpPr>
        <p:spPr>
          <a:xfrm>
            <a:off x="745920" y="1124280"/>
            <a:ext cx="29847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マクロ（プログラム）例　　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55640" y="1844640"/>
            <a:ext cx="460836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ub </a:t>
            </a:r>
            <a:r>
              <a:rPr b="1" lang="zh-CN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計算初期化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ange("B6:I6").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ion.Clear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ange("j4").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nd 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ub </a:t>
            </a:r>
            <a:r>
              <a:rPr b="1" lang="zh-CN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ログラム初期化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ange("</a:t>
            </a:r>
            <a:r>
              <a:rPr b="1" lang="zh-CN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ログラム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).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ion.Clear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ange("l6").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ion.Clear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ange("l9").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nd 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ub </a:t>
            </a:r>
            <a:r>
              <a:rPr b="1" lang="zh-CN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ンプルプログラム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ange("</a:t>
            </a:r>
            <a:r>
              <a:rPr b="1" lang="zh-CN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ンプル１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).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pplication.CutCopyMode =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ion.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heets("LED</a:t>
            </a:r>
            <a:r>
              <a:rPr b="1" lang="zh-CN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制御プログラム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).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ange("m12").Sel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ctiveSheet.P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pplication.CutCopyMode =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292428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5640" y="436572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364000" y="1844640"/>
            <a:ext cx="14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00"/>
                </a:solidFill>
                <a:latin typeface="ＭＳ Ｐ明朝"/>
              </a:rPr>
              <a:t>｝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ＭＳ Ｐ明朝"/>
              <a:ea typeface="ＭＳ Ｐ明朝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364000" y="2924280"/>
            <a:ext cx="1447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00"/>
                </a:solidFill>
                <a:latin typeface="ＭＳ Ｐ明朝"/>
              </a:rPr>
              <a:t>｝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ＭＳ Ｐ明朝"/>
              <a:ea typeface="ＭＳ Ｐ明朝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364000" y="4365720"/>
            <a:ext cx="14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00"/>
                </a:solidFill>
                <a:latin typeface="ＭＳ Ｐ明朝"/>
              </a:rPr>
              <a:t>｝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ＭＳ Ｐ明朝"/>
              <a:ea typeface="ＭＳ Ｐ明朝"/>
            </a:endParaRPr>
          </a:p>
        </p:txBody>
      </p:sp>
      <p:sp>
        <p:nvSpPr>
          <p:cNvPr id="303" name=""/>
          <p:cNvSpPr/>
          <p:nvPr/>
        </p:nvSpPr>
        <p:spPr>
          <a:xfrm>
            <a:off x="5508720" y="2238480"/>
            <a:ext cx="33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Times New Roman"/>
              </a:rPr>
              <a:t>自動数値計算のデータを消去し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64040" y="346536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Times New Roman"/>
              </a:rPr>
              <a:t>プログラムリストを消去し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72000" y="4764240"/>
            <a:ext cx="36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Times New Roman"/>
              </a:rPr>
              <a:t>サンプルプログラム１に記され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Times New Roman"/>
              </a:rPr>
              <a:t>数値データを「</a:t>
            </a:r>
            <a:r>
              <a:rPr b="1" lang="en-US" sz="16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LED</a:t>
            </a:r>
            <a:r>
              <a:rPr b="1" lang="zh-CN" sz="16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制御プログラム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のシートのリスト欄に</a:t>
            </a:r>
            <a:r>
              <a:rPr b="1" lang="zh-CN" sz="1600" spc="-1" strike="noStrike">
                <a:solidFill>
                  <a:srgbClr val="cc3300"/>
                </a:solidFill>
                <a:latin typeface="Times New Roman"/>
              </a:rPr>
              <a:t>貼り付け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366920" y="404640"/>
            <a:ext cx="64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ff"/>
                </a:solidFill>
                <a:latin typeface="ＭＳ Ｐゴシック"/>
              </a:rPr>
              <a:t>ＷｉｎｄｏｗｓＸＰによるロボットの制御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307" name=""/>
          <p:cNvSpPr/>
          <p:nvPr/>
        </p:nvSpPr>
        <p:spPr>
          <a:xfrm>
            <a:off x="885240" y="1170360"/>
            <a:ext cx="20095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ロボット制御への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5520" y="305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運搬ロボッ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22800" y="3051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インターフェイ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819760" y="3508200"/>
            <a:ext cx="2524320" cy="31608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11280" y="3508200"/>
            <a:ext cx="4176720" cy="31402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733920" y="1197000"/>
            <a:ext cx="3933720" cy="17762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890960" y="26622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無線化（ラジコン）制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4500720" y="1081080"/>
            <a:ext cx="4631040" cy="2203560"/>
            <a:chOff x="4500720" y="1081080"/>
            <a:chExt cx="4631040" cy="2203560"/>
          </a:xfrm>
        </p:grpSpPr>
        <p:grpSp>
          <p:nvGrpSpPr>
            <p:cNvPr id="315" name=""/>
            <p:cNvGrpSpPr/>
            <p:nvPr/>
          </p:nvGrpSpPr>
          <p:grpSpPr>
            <a:xfrm>
              <a:off x="4500720" y="1108080"/>
              <a:ext cx="4201200" cy="2176200"/>
              <a:chOff x="4500720" y="1108080"/>
              <a:chExt cx="4201200" cy="21762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5231160" y="1108080"/>
                <a:ext cx="3470760" cy="2176200"/>
                <a:chOff x="5231160" y="1108080"/>
                <a:chExt cx="3470760" cy="217620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6157080" y="1973520"/>
                  <a:ext cx="578520" cy="5896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272640" y="2035440"/>
                  <a:ext cx="2520" cy="488520"/>
                </a:xfrm>
                <a:custGeom>
                  <a:avLst/>
                  <a:gdLst/>
                  <a:ahLst/>
                  <a:rect l="l" t="t" r="r" b="b"/>
                  <a:pathLst>
                    <a:path w="2" h="596">
                      <a:moveTo>
                        <a:pt x="2" y="0"/>
                      </a:moveTo>
                      <a:lnTo>
                        <a:pt x="0" y="596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272640" y="2000880"/>
                  <a:ext cx="294120" cy="169200"/>
                </a:xfrm>
                <a:custGeom>
                  <a:avLst/>
                  <a:gdLst/>
                  <a:ahLst/>
                  <a:rect l="l" t="t" r="r" b="b"/>
                  <a:pathLst>
                    <a:path w="367" h="206">
                      <a:moveTo>
                        <a:pt x="0" y="206"/>
                      </a:moveTo>
                      <a:lnTo>
                        <a:pt x="367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272640" y="2367000"/>
                  <a:ext cx="307800" cy="175320"/>
                </a:xfrm>
                <a:custGeom>
                  <a:avLst/>
                  <a:gdLst/>
                  <a:ahLst/>
                  <a:rect l="l" t="t" r="r" b="b"/>
                  <a:pathLst>
                    <a:path w="384" h="215">
                      <a:moveTo>
                        <a:pt x="0" y="0"/>
                      </a:moveTo>
                      <a:lnTo>
                        <a:pt x="384" y="2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040440" y="2287800"/>
                  <a:ext cx="231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580800" y="2537280"/>
                  <a:ext cx="0" cy="747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580800" y="1776960"/>
                  <a:ext cx="0" cy="236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" name=""/>
                <p:cNvGrpSpPr/>
                <p:nvPr/>
              </p:nvGrpSpPr>
              <p:grpSpPr>
                <a:xfrm>
                  <a:off x="6060600" y="1501200"/>
                  <a:ext cx="192960" cy="117360"/>
                  <a:chOff x="6060600" y="1501200"/>
                  <a:chExt cx="192960" cy="11736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6060600" y="1501200"/>
                    <a:ext cx="192960" cy="11736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flipH="1">
                    <a:off x="6060600" y="1501200"/>
                    <a:ext cx="1929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5231160" y="2170080"/>
                  <a:ext cx="886680" cy="236160"/>
                  <a:chOff x="5231160" y="2170080"/>
                  <a:chExt cx="886680" cy="23616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5231160" y="2288160"/>
                    <a:ext cx="2761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flipV="1">
                    <a:off x="5507280" y="2170080"/>
                    <a:ext cx="40680" cy="117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5548320" y="2170440"/>
                    <a:ext cx="81000" cy="235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V="1">
                    <a:off x="5629320" y="2170080"/>
                    <a:ext cx="81000" cy="235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710320" y="2170440"/>
                    <a:ext cx="81720" cy="235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V="1">
                    <a:off x="5792400" y="2170080"/>
                    <a:ext cx="81000" cy="235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995800" y="2288160"/>
                    <a:ext cx="1220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5873400" y="2170440"/>
                    <a:ext cx="81000" cy="2358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V="1">
                    <a:off x="5954760" y="2287800"/>
                    <a:ext cx="40680" cy="117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6453000" y="1304640"/>
                  <a:ext cx="242640" cy="471960"/>
                  <a:chOff x="6453000" y="1304640"/>
                  <a:chExt cx="242640" cy="47196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6473880" y="1626120"/>
                    <a:ext cx="216000" cy="414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473880" y="1556640"/>
                    <a:ext cx="216000" cy="414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473880" y="1487160"/>
                    <a:ext cx="216000" cy="414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6473880" y="1422360"/>
                    <a:ext cx="216000" cy="4140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920" bIns="-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6462360" y="1610640"/>
                    <a:ext cx="2332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1016" y="21598"/>
                        </a:moveTo>
                        <a:arcTo wR="10800" hR="10800" stAng="5331166" swAng="766882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1016" y="21598"/>
                        </a:moveTo>
                        <a:arcTo wR="10800" hR="10800" stAng="5331166" swAng="7668820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6453000" y="1494720"/>
                    <a:ext cx="10476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637" y="20765"/>
                        </a:moveTo>
                        <a:arcTo wR="10800" hR="10800" stAng="6760383" swAng="870827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637" y="20765"/>
                        </a:moveTo>
                        <a:arcTo wR="10800" hR="10800" stAng="6760383" swAng="8708275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6455880" y="1561680"/>
                    <a:ext cx="1054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637" y="20765"/>
                        </a:moveTo>
                        <a:arcTo wR="10800" hR="10800" stAng="6760383" swAng="870827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637" y="20765"/>
                        </a:moveTo>
                        <a:arcTo wR="10800" hR="10800" stAng="6760383" swAng="8708275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6456960" y="1425960"/>
                    <a:ext cx="10548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637" y="20765"/>
                        </a:moveTo>
                        <a:arcTo wR="10800" hR="10800" stAng="6760383" swAng="870827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637" y="20765"/>
                        </a:moveTo>
                        <a:arcTo wR="10800" hR="10800" stAng="6760383" swAng="8708275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6581880" y="1721160"/>
                    <a:ext cx="0" cy="55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457680" y="1363680"/>
                    <a:ext cx="23292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954" y="16996"/>
                        </a:moveTo>
                        <a:arcTo wR="10800" hR="10800" stAng="8699459" swAng="765466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954" y="16996"/>
                        </a:moveTo>
                        <a:arcTo wR="10800" hR="10800" stAng="8699459" swAng="7654666"/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581880" y="1304640"/>
                    <a:ext cx="0" cy="601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9" name=""/>
                <p:cNvSpPr/>
                <p:nvPr/>
              </p:nvSpPr>
              <p:spPr>
                <a:xfrm>
                  <a:off x="6157080" y="1108080"/>
                  <a:ext cx="0" cy="78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157080" y="1894320"/>
                  <a:ext cx="423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157080" y="1108080"/>
                  <a:ext cx="2390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547480" y="1108080"/>
                  <a:ext cx="0" cy="1062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394120" y="2170440"/>
                  <a:ext cx="307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471520" y="2248200"/>
                  <a:ext cx="153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8547480" y="2248200"/>
                  <a:ext cx="0" cy="1022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580800" y="3270960"/>
                  <a:ext cx="196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580800" y="1108080"/>
                  <a:ext cx="0" cy="235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424120" y="3270960"/>
                  <a:ext cx="1156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424120" y="2839320"/>
                  <a:ext cx="0" cy="431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231160" y="2839320"/>
                  <a:ext cx="192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815600" y="2170440"/>
                  <a:ext cx="307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893000" y="2248200"/>
                  <a:ext cx="153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6928920" y="1383480"/>
                  <a:ext cx="115200" cy="27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350040" y="1256400"/>
                  <a:ext cx="771120" cy="5734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889320" y="1658160"/>
                  <a:ext cx="0" cy="118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6889320" y="1776960"/>
                  <a:ext cx="501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390440" y="1776960"/>
                  <a:ext cx="0" cy="1258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390440" y="3035880"/>
                  <a:ext cx="5781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968960" y="2248200"/>
                  <a:ext cx="0" cy="787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889320" y="1304640"/>
                  <a:ext cx="0" cy="156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1" name=""/>
                <p:cNvGrpSpPr/>
                <p:nvPr/>
              </p:nvGrpSpPr>
              <p:grpSpPr>
                <a:xfrm>
                  <a:off x="6850800" y="1421640"/>
                  <a:ext cx="73440" cy="261000"/>
                  <a:chOff x="6850800" y="1421640"/>
                  <a:chExt cx="73440" cy="26100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rot="5380200">
                    <a:off x="6849720" y="1423080"/>
                    <a:ext cx="74520" cy="72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rot="5380200">
                    <a:off x="6850800" y="1609200"/>
                    <a:ext cx="74520" cy="72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" bIns="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4" name=""/>
                <p:cNvSpPr/>
                <p:nvPr/>
              </p:nvSpPr>
              <p:spPr>
                <a:xfrm>
                  <a:off x="6889320" y="1304640"/>
                  <a:ext cx="1079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968960" y="1304640"/>
                  <a:ext cx="0" cy="865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928920" y="2406600"/>
                  <a:ext cx="230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928920" y="2484360"/>
                  <a:ext cx="230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044120" y="2170440"/>
                  <a:ext cx="34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044120" y="2720520"/>
                  <a:ext cx="346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044120" y="2170440"/>
                  <a:ext cx="0" cy="235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044120" y="2484360"/>
                  <a:ext cx="0" cy="235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7371360" y="2144160"/>
                  <a:ext cx="38880" cy="3816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7364880" y="2701080"/>
                  <a:ext cx="39240" cy="39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212600" y="2283840"/>
                  <a:ext cx="342360" cy="307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Ｍ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4500720" y="1839960"/>
                <a:ext cx="730440" cy="14245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4613040" y="22798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Ｐ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61000" y="3246480"/>
              <a:ext cx="39960" cy="381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69520" y="22496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84040" y="24177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84040" y="18288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58560" y="108108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ff"/>
                  </a:solidFill>
                  <a:latin typeface="Times New Roman"/>
                  <a:ea typeface="ＭＳ ゴシック"/>
                </a:rPr>
                <a:t>リレー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941600" y="1914480"/>
              <a:ext cx="43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３</a:t>
              </a:r>
              <a:r>
                <a:rPr b="1" lang="en-US" sz="14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524440" y="19144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4.5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554880" y="1084320"/>
              <a:ext cx="39600" cy="381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54880" y="1878120"/>
              <a:ext cx="39600" cy="3816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187280" y="1628640"/>
            <a:ext cx="2730240" cy="1800360"/>
            <a:chOff x="1187280" y="1628640"/>
            <a:chExt cx="2730240" cy="1800360"/>
          </a:xfrm>
        </p:grpSpPr>
        <p:grpSp>
          <p:nvGrpSpPr>
            <p:cNvPr id="397" name=""/>
            <p:cNvGrpSpPr/>
            <p:nvPr/>
          </p:nvGrpSpPr>
          <p:grpSpPr>
            <a:xfrm>
              <a:off x="3582720" y="2604960"/>
              <a:ext cx="95040" cy="361800"/>
              <a:chOff x="3582720" y="2604960"/>
              <a:chExt cx="95040" cy="361800"/>
            </a:xfrm>
          </p:grpSpPr>
          <p:sp>
            <p:nvSpPr>
              <p:cNvPr id="398" name=""/>
              <p:cNvSpPr/>
              <p:nvPr/>
            </p:nvSpPr>
            <p:spPr>
              <a:xfrm rot="5400000">
                <a:off x="3578400" y="2608920"/>
                <a:ext cx="103320" cy="95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5400000">
                <a:off x="3578400" y="2867400"/>
                <a:ext cx="103320" cy="95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2252520" y="1990800"/>
              <a:ext cx="570960" cy="358200"/>
              <a:chOff x="2252520" y="1990800"/>
              <a:chExt cx="570960" cy="358200"/>
            </a:xfrm>
          </p:grpSpPr>
          <p:sp>
            <p:nvSpPr>
              <p:cNvPr id="401" name=""/>
              <p:cNvSpPr/>
              <p:nvPr/>
            </p:nvSpPr>
            <p:spPr>
              <a:xfrm rot="5400000">
                <a:off x="2724480" y="1994040"/>
                <a:ext cx="102240" cy="95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5400000">
                <a:off x="2724480" y="2250000"/>
                <a:ext cx="102240" cy="95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5400000">
                <a:off x="2486160" y="1994040"/>
                <a:ext cx="102240" cy="95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5400000">
                <a:off x="2486160" y="2250000"/>
                <a:ext cx="102240" cy="95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5400000">
                <a:off x="2248920" y="1994040"/>
                <a:ext cx="102240" cy="95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5400000">
                <a:off x="2248920" y="2250000"/>
                <a:ext cx="102240" cy="95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 flipH="1">
              <a:off x="2298240" y="1990800"/>
              <a:ext cx="239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2298240" y="2349360"/>
              <a:ext cx="239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5400000">
              <a:off x="2230200" y="1717560"/>
              <a:ext cx="565200" cy="905040"/>
            </a:xfrm>
            <a:prstGeom prst="rect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5400000">
              <a:off x="3318120" y="2574000"/>
              <a:ext cx="770040" cy="428400"/>
            </a:xfrm>
            <a:prstGeom prst="rect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79560" y="2658960"/>
              <a:ext cx="98280" cy="30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538000" y="1681200"/>
              <a:ext cx="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1393200" y="1681200"/>
              <a:ext cx="1144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93560" y="1681200"/>
              <a:ext cx="0" cy="92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87280" y="1941480"/>
              <a:ext cx="433080" cy="395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Ｍ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93560" y="2604960"/>
              <a:ext cx="1144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38000" y="2349360"/>
              <a:ext cx="0" cy="25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04720" y="3121200"/>
              <a:ext cx="0" cy="30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09680" y="3186000"/>
              <a:ext cx="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33480" y="2967120"/>
              <a:ext cx="0" cy="30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74520" y="2349360"/>
              <a:ext cx="0" cy="9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3202920" y="3273480"/>
              <a:ext cx="428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2773080" y="3273480"/>
              <a:ext cx="334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33480" y="1628640"/>
              <a:ext cx="0" cy="9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2773080" y="1628640"/>
              <a:ext cx="85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74520" y="1628640"/>
              <a:ext cx="0" cy="36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2343960" y="2093760"/>
              <a:ext cx="428760" cy="154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 flipV="1">
              <a:off x="2343960" y="2093760"/>
              <a:ext cx="428760" cy="154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179280" y="278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モータの正転・逆転回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357800" y="98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リレー制御回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366920" y="404640"/>
            <a:ext cx="64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ff"/>
                </a:solidFill>
                <a:latin typeface="ＭＳ Ｐゴシック"/>
              </a:rPr>
              <a:t>ＷｉｎｄｏｗｓＸＰによるロボットの制御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32" name=""/>
          <p:cNvSpPr/>
          <p:nvPr/>
        </p:nvSpPr>
        <p:spPr>
          <a:xfrm>
            <a:off x="851400" y="1026000"/>
            <a:ext cx="23752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リレーを用いた制御回路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rcRect l="5851" t="4512" r="3406" b="3371"/>
          <a:stretch/>
        </p:blipFill>
        <p:spPr>
          <a:xfrm>
            <a:off x="108000" y="3429000"/>
            <a:ext cx="4105080" cy="2952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4284720" y="1123920"/>
            <a:ext cx="0" cy="568980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8400" y="6308640"/>
            <a:ext cx="18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並列に接続することにより制御す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モータ数を増やすことができ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5364000" y="3500280"/>
            <a:ext cx="2835360" cy="3213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366920" y="404640"/>
            <a:ext cx="64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ff"/>
                </a:solidFill>
                <a:latin typeface="ＭＳ Ｐゴシック"/>
              </a:rPr>
              <a:t>ＷｉｎｄｏｗｓＸＰによるロボットの制御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438" name=""/>
          <p:cNvSpPr/>
          <p:nvPr/>
        </p:nvSpPr>
        <p:spPr>
          <a:xfrm>
            <a:off x="1220400" y="1170360"/>
            <a:ext cx="45698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ロボット制御への応用（ＬＥＤ制御用ソフトの応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00120" y="1844640"/>
            <a:ext cx="792000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90560" y="2349360"/>
            <a:ext cx="5761080" cy="2514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366920" y="404640"/>
            <a:ext cx="64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ff"/>
                </a:solidFill>
                <a:latin typeface="ＭＳ Ｐゴシック"/>
              </a:rPr>
              <a:t>ＷｉｎｄｏｗｓＸＰによるＬＥＤの制御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184356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m2N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社　商品名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B-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340280"/>
            <a:ext cx="43210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今回使用したインターフェイ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8000" y="5013360"/>
            <a:ext cx="532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ＭＳ ゴシック"/>
                <a:ea typeface="ＭＳ ゴシック"/>
              </a:rPr>
              <a:t>この他にも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ＭＳ ゴシック"/>
                <a:ea typeface="ＭＳ ゴシック"/>
              </a:rPr>
              <a:t>　・テクノキット社　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  <a:ea typeface="ＭＳ ゴシック"/>
              </a:rPr>
              <a:t>USB-IOV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ＭＳ ゴシック"/>
                <a:ea typeface="ＭＳ ゴシック"/>
              </a:rPr>
              <a:t>　・ワイツー社　　　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  <a:ea typeface="ＭＳ ゴシック"/>
              </a:rPr>
              <a:t>DIO-16/32A-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ＭＳ ゴシック"/>
                <a:ea typeface="ＭＳ ゴシック"/>
              </a:rPr>
              <a:t>　・秋月電子通商　　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  <a:ea typeface="ＭＳ ゴシック"/>
              </a:rPr>
              <a:t>AKI-H8/3048F</a:t>
            </a:r>
            <a:r>
              <a:rPr b="1" lang="zh-CN" sz="1800" spc="-1" strike="noStrike">
                <a:solidFill>
                  <a:srgbClr val="006600"/>
                </a:solidFill>
                <a:latin typeface="ＭＳ ゴシック"/>
                <a:ea typeface="ＭＳ ゴシック"/>
              </a:rPr>
              <a:t>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ＭＳ ゴシック"/>
                <a:ea typeface="ＭＳ ゴシック"/>
              </a:rPr>
              <a:t> </a:t>
            </a:r>
            <a:r>
              <a:rPr b="1" lang="zh-CN" sz="1800" spc="-1" strike="noStrike">
                <a:solidFill>
                  <a:srgbClr val="006600"/>
                </a:solidFill>
                <a:latin typeface="ＭＳ ゴシック"/>
                <a:ea typeface="ＭＳ ゴシック"/>
              </a:rPr>
              <a:t>　　　　　などのインターフェイスがあ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4941720"/>
            <a:ext cx="3600360" cy="157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16360" y="5013360"/>
            <a:ext cx="936360" cy="14400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600" y="450864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Ｋｍ２　ＵＳＢ－Ｉ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068720" y="1197000"/>
            <a:ext cx="4680000" cy="3024000"/>
            <a:chOff x="4068720" y="1197000"/>
            <a:chExt cx="4680000" cy="3024000"/>
          </a:xfrm>
        </p:grpSpPr>
        <p:grpSp>
          <p:nvGrpSpPr>
            <p:cNvPr id="58" name=""/>
            <p:cNvGrpSpPr/>
            <p:nvPr/>
          </p:nvGrpSpPr>
          <p:grpSpPr>
            <a:xfrm>
              <a:off x="4068720" y="1197000"/>
              <a:ext cx="4680000" cy="3024000"/>
              <a:chOff x="4068720" y="1197000"/>
              <a:chExt cx="4680000" cy="30240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4280040" y="1612800"/>
                <a:ext cx="4037040" cy="1834920"/>
                <a:chOff x="4280040" y="1612800"/>
                <a:chExt cx="4037040" cy="18349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5694480" y="1628640"/>
                  <a:ext cx="318960" cy="1819080"/>
                  <a:chOff x="5694480" y="1628640"/>
                  <a:chExt cx="318960" cy="1819080"/>
                </a:xfrm>
              </p:grpSpPr>
              <p:grpSp>
                <p:nvGrpSpPr>
                  <p:cNvPr id="61" name=""/>
                  <p:cNvGrpSpPr/>
                  <p:nvPr/>
                </p:nvGrpSpPr>
                <p:grpSpPr>
                  <a:xfrm>
                    <a:off x="5694480" y="1628640"/>
                    <a:ext cx="318960" cy="1151640"/>
                    <a:chOff x="5694480" y="1628640"/>
                    <a:chExt cx="318960" cy="115164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5749200" y="2159280"/>
                      <a:ext cx="2113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3" name=""/>
                    <p:cNvGrpSpPr/>
                    <p:nvPr/>
                  </p:nvGrpSpPr>
                  <p:grpSpPr>
                    <a:xfrm>
                      <a:off x="5694480" y="1628640"/>
                      <a:ext cx="318960" cy="1151640"/>
                      <a:chOff x="5694480" y="1628640"/>
                      <a:chExt cx="318960" cy="1151640"/>
                    </a:xfrm>
                  </p:grpSpPr>
                  <p:sp>
                    <p:nvSpPr>
                      <p:cNvPr id="64" name=""/>
                      <p:cNvSpPr/>
                      <p:nvPr/>
                    </p:nvSpPr>
                    <p:spPr>
                      <a:xfrm>
                        <a:off x="5694480" y="1931760"/>
                        <a:ext cx="318960" cy="28440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" name=""/>
                      <p:cNvSpPr/>
                      <p:nvPr/>
                    </p:nvSpPr>
                    <p:spPr>
                      <a:xfrm>
                        <a:off x="5853600" y="1628640"/>
                        <a:ext cx="0" cy="7603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" name=""/>
                      <p:cNvSpPr/>
                      <p:nvPr/>
                    </p:nvSpPr>
                    <p:spPr>
                      <a:xfrm rot="10800000">
                        <a:off x="5747760" y="1991880"/>
                        <a:ext cx="211320" cy="1670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000" bIns="9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" name=""/>
                      <p:cNvSpPr/>
                      <p:nvPr/>
                    </p:nvSpPr>
                    <p:spPr>
                      <a:xfrm rot="5400000">
                        <a:off x="5636160" y="2485440"/>
                        <a:ext cx="431280" cy="15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80" h="454">
                            <a:moveTo>
                              <a:pt x="0" y="227"/>
                            </a:moveTo>
                            <a:lnTo>
                              <a:pt x="201" y="224"/>
                            </a:lnTo>
                            <a:lnTo>
                              <a:pt x="272" y="0"/>
                            </a:lnTo>
                            <a:lnTo>
                              <a:pt x="409" y="454"/>
                            </a:lnTo>
                            <a:lnTo>
                              <a:pt x="545" y="0"/>
                            </a:lnTo>
                            <a:lnTo>
                              <a:pt x="681" y="454"/>
                            </a:lnTo>
                            <a:lnTo>
                              <a:pt x="817" y="0"/>
                            </a:lnTo>
                            <a:lnTo>
                              <a:pt x="953" y="454"/>
                            </a:lnTo>
                            <a:lnTo>
                              <a:pt x="1044" y="227"/>
                            </a:lnTo>
                            <a:lnTo>
                              <a:pt x="1180" y="22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68" name=""/>
                  <p:cNvSpPr/>
                  <p:nvPr/>
                </p:nvSpPr>
                <p:spPr>
                  <a:xfrm>
                    <a:off x="5855400" y="2780640"/>
                    <a:ext cx="0" cy="667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6035760" y="1628640"/>
                  <a:ext cx="318960" cy="1819080"/>
                  <a:chOff x="6035760" y="1628640"/>
                  <a:chExt cx="318960" cy="1819080"/>
                </a:xfrm>
              </p:grpSpPr>
              <p:grpSp>
                <p:nvGrpSpPr>
                  <p:cNvPr id="70" name=""/>
                  <p:cNvGrpSpPr/>
                  <p:nvPr/>
                </p:nvGrpSpPr>
                <p:grpSpPr>
                  <a:xfrm>
                    <a:off x="6035760" y="1628640"/>
                    <a:ext cx="318960" cy="1151640"/>
                    <a:chOff x="6035760" y="1628640"/>
                    <a:chExt cx="318960" cy="1151640"/>
                  </a:xfrm>
                </p:grpSpPr>
                <p:sp>
                  <p:nvSpPr>
                    <p:cNvPr id="71" name=""/>
                    <p:cNvSpPr/>
                    <p:nvPr/>
                  </p:nvSpPr>
                  <p:spPr>
                    <a:xfrm>
                      <a:off x="6090480" y="2159280"/>
                      <a:ext cx="2113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2" name=""/>
                    <p:cNvGrpSpPr/>
                    <p:nvPr/>
                  </p:nvGrpSpPr>
                  <p:grpSpPr>
                    <a:xfrm>
                      <a:off x="6035760" y="1628640"/>
                      <a:ext cx="318960" cy="1151640"/>
                      <a:chOff x="6035760" y="1628640"/>
                      <a:chExt cx="318960" cy="1151640"/>
                    </a:xfrm>
                  </p:grpSpPr>
                  <p:sp>
                    <p:nvSpPr>
                      <p:cNvPr id="73" name=""/>
                      <p:cNvSpPr/>
                      <p:nvPr/>
                    </p:nvSpPr>
                    <p:spPr>
                      <a:xfrm>
                        <a:off x="6035760" y="1931760"/>
                        <a:ext cx="318960" cy="28440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" name=""/>
                      <p:cNvSpPr/>
                      <p:nvPr/>
                    </p:nvSpPr>
                    <p:spPr>
                      <a:xfrm>
                        <a:off x="6194880" y="1628640"/>
                        <a:ext cx="0" cy="7603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" name=""/>
                      <p:cNvSpPr/>
                      <p:nvPr/>
                    </p:nvSpPr>
                    <p:spPr>
                      <a:xfrm rot="10800000">
                        <a:off x="6089040" y="1991880"/>
                        <a:ext cx="211320" cy="1670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000" bIns="9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" name=""/>
                      <p:cNvSpPr/>
                      <p:nvPr/>
                    </p:nvSpPr>
                    <p:spPr>
                      <a:xfrm rot="5400000">
                        <a:off x="5977440" y="2485440"/>
                        <a:ext cx="431280" cy="15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80" h="454">
                            <a:moveTo>
                              <a:pt x="0" y="227"/>
                            </a:moveTo>
                            <a:lnTo>
                              <a:pt x="201" y="224"/>
                            </a:lnTo>
                            <a:lnTo>
                              <a:pt x="272" y="0"/>
                            </a:lnTo>
                            <a:lnTo>
                              <a:pt x="409" y="454"/>
                            </a:lnTo>
                            <a:lnTo>
                              <a:pt x="545" y="0"/>
                            </a:lnTo>
                            <a:lnTo>
                              <a:pt x="681" y="454"/>
                            </a:lnTo>
                            <a:lnTo>
                              <a:pt x="817" y="0"/>
                            </a:lnTo>
                            <a:lnTo>
                              <a:pt x="953" y="454"/>
                            </a:lnTo>
                            <a:lnTo>
                              <a:pt x="1044" y="227"/>
                            </a:lnTo>
                            <a:lnTo>
                              <a:pt x="1180" y="22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7" name=""/>
                  <p:cNvSpPr/>
                  <p:nvPr/>
                </p:nvSpPr>
                <p:spPr>
                  <a:xfrm>
                    <a:off x="6196680" y="2780640"/>
                    <a:ext cx="0" cy="667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" name=""/>
                <p:cNvGrpSpPr/>
                <p:nvPr/>
              </p:nvGrpSpPr>
              <p:grpSpPr>
                <a:xfrm>
                  <a:off x="6372360" y="1628640"/>
                  <a:ext cx="317520" cy="1819080"/>
                  <a:chOff x="6372360" y="1628640"/>
                  <a:chExt cx="317520" cy="1819080"/>
                </a:xfrm>
              </p:grpSpPr>
              <p:grpSp>
                <p:nvGrpSpPr>
                  <p:cNvPr id="79" name=""/>
                  <p:cNvGrpSpPr/>
                  <p:nvPr/>
                </p:nvGrpSpPr>
                <p:grpSpPr>
                  <a:xfrm>
                    <a:off x="6372360" y="1628640"/>
                    <a:ext cx="317520" cy="1151640"/>
                    <a:chOff x="6372360" y="1628640"/>
                    <a:chExt cx="317520" cy="1151640"/>
                  </a:xfrm>
                </p:grpSpPr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6427080" y="2159280"/>
                      <a:ext cx="21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1" name=""/>
                    <p:cNvGrpSpPr/>
                    <p:nvPr/>
                  </p:nvGrpSpPr>
                  <p:grpSpPr>
                    <a:xfrm>
                      <a:off x="6372360" y="1628640"/>
                      <a:ext cx="317520" cy="1151640"/>
                      <a:chOff x="6372360" y="1628640"/>
                      <a:chExt cx="317520" cy="1151640"/>
                    </a:xfrm>
                  </p:grpSpPr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372360" y="1931760"/>
                        <a:ext cx="317520" cy="28440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6530760" y="1628640"/>
                        <a:ext cx="0" cy="7603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" name=""/>
                      <p:cNvSpPr/>
                      <p:nvPr/>
                    </p:nvSpPr>
                    <p:spPr>
                      <a:xfrm rot="10800000">
                        <a:off x="6425640" y="1991880"/>
                        <a:ext cx="210240" cy="1670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000" bIns="9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" name=""/>
                      <p:cNvSpPr/>
                      <p:nvPr/>
                    </p:nvSpPr>
                    <p:spPr>
                      <a:xfrm rot="5400000">
                        <a:off x="6313320" y="2485800"/>
                        <a:ext cx="431280" cy="15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80" h="454">
                            <a:moveTo>
                              <a:pt x="0" y="227"/>
                            </a:moveTo>
                            <a:lnTo>
                              <a:pt x="201" y="224"/>
                            </a:lnTo>
                            <a:lnTo>
                              <a:pt x="272" y="0"/>
                            </a:lnTo>
                            <a:lnTo>
                              <a:pt x="409" y="454"/>
                            </a:lnTo>
                            <a:lnTo>
                              <a:pt x="545" y="0"/>
                            </a:lnTo>
                            <a:lnTo>
                              <a:pt x="681" y="454"/>
                            </a:lnTo>
                            <a:lnTo>
                              <a:pt x="817" y="0"/>
                            </a:lnTo>
                            <a:lnTo>
                              <a:pt x="953" y="454"/>
                            </a:lnTo>
                            <a:lnTo>
                              <a:pt x="1044" y="227"/>
                            </a:lnTo>
                            <a:lnTo>
                              <a:pt x="1180" y="22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6" name=""/>
                  <p:cNvSpPr/>
                  <p:nvPr/>
                </p:nvSpPr>
                <p:spPr>
                  <a:xfrm>
                    <a:off x="6532560" y="2780640"/>
                    <a:ext cx="0" cy="667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" name=""/>
                <p:cNvGrpSpPr/>
                <p:nvPr/>
              </p:nvGrpSpPr>
              <p:grpSpPr>
                <a:xfrm>
                  <a:off x="6703920" y="1628640"/>
                  <a:ext cx="317520" cy="1819080"/>
                  <a:chOff x="6703920" y="1628640"/>
                  <a:chExt cx="317520" cy="1819080"/>
                </a:xfrm>
              </p:grpSpPr>
              <p:grpSp>
                <p:nvGrpSpPr>
                  <p:cNvPr id="88" name=""/>
                  <p:cNvGrpSpPr/>
                  <p:nvPr/>
                </p:nvGrpSpPr>
                <p:grpSpPr>
                  <a:xfrm>
                    <a:off x="6703920" y="1628640"/>
                    <a:ext cx="317520" cy="1151640"/>
                    <a:chOff x="6703920" y="1628640"/>
                    <a:chExt cx="317520" cy="1151640"/>
                  </a:xfrm>
                </p:grpSpPr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758640" y="2159280"/>
                      <a:ext cx="21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0" name=""/>
                    <p:cNvGrpSpPr/>
                    <p:nvPr/>
                  </p:nvGrpSpPr>
                  <p:grpSpPr>
                    <a:xfrm>
                      <a:off x="6703920" y="1628640"/>
                      <a:ext cx="317520" cy="1151640"/>
                      <a:chOff x="6703920" y="1628640"/>
                      <a:chExt cx="317520" cy="1151640"/>
                    </a:xfrm>
                  </p:grpSpPr>
                  <p:sp>
                    <p:nvSpPr>
                      <p:cNvPr id="91" name=""/>
                      <p:cNvSpPr/>
                      <p:nvPr/>
                    </p:nvSpPr>
                    <p:spPr>
                      <a:xfrm>
                        <a:off x="6703920" y="1931760"/>
                        <a:ext cx="317520" cy="28440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" name=""/>
                      <p:cNvSpPr/>
                      <p:nvPr/>
                    </p:nvSpPr>
                    <p:spPr>
                      <a:xfrm>
                        <a:off x="6862320" y="1628640"/>
                        <a:ext cx="0" cy="7603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" name=""/>
                      <p:cNvSpPr/>
                      <p:nvPr/>
                    </p:nvSpPr>
                    <p:spPr>
                      <a:xfrm rot="10800000">
                        <a:off x="6757200" y="1991880"/>
                        <a:ext cx="210240" cy="1670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000" bIns="9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" name=""/>
                      <p:cNvSpPr/>
                      <p:nvPr/>
                    </p:nvSpPr>
                    <p:spPr>
                      <a:xfrm rot="5400000">
                        <a:off x="6644880" y="2485800"/>
                        <a:ext cx="431280" cy="15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80" h="454">
                            <a:moveTo>
                              <a:pt x="0" y="227"/>
                            </a:moveTo>
                            <a:lnTo>
                              <a:pt x="201" y="224"/>
                            </a:lnTo>
                            <a:lnTo>
                              <a:pt x="272" y="0"/>
                            </a:lnTo>
                            <a:lnTo>
                              <a:pt x="409" y="454"/>
                            </a:lnTo>
                            <a:lnTo>
                              <a:pt x="545" y="0"/>
                            </a:lnTo>
                            <a:lnTo>
                              <a:pt x="681" y="454"/>
                            </a:lnTo>
                            <a:lnTo>
                              <a:pt x="817" y="0"/>
                            </a:lnTo>
                            <a:lnTo>
                              <a:pt x="953" y="454"/>
                            </a:lnTo>
                            <a:lnTo>
                              <a:pt x="1044" y="227"/>
                            </a:lnTo>
                            <a:lnTo>
                              <a:pt x="1180" y="22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95" name=""/>
                  <p:cNvSpPr/>
                  <p:nvPr/>
                </p:nvSpPr>
                <p:spPr>
                  <a:xfrm>
                    <a:off x="6864120" y="2780640"/>
                    <a:ext cx="0" cy="667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" name=""/>
                <p:cNvGrpSpPr/>
                <p:nvPr/>
              </p:nvGrpSpPr>
              <p:grpSpPr>
                <a:xfrm>
                  <a:off x="7021440" y="1628640"/>
                  <a:ext cx="319320" cy="1819080"/>
                  <a:chOff x="7021440" y="1628640"/>
                  <a:chExt cx="319320" cy="1819080"/>
                </a:xfrm>
              </p:grpSpPr>
              <p:grpSp>
                <p:nvGrpSpPr>
                  <p:cNvPr id="97" name=""/>
                  <p:cNvGrpSpPr/>
                  <p:nvPr/>
                </p:nvGrpSpPr>
                <p:grpSpPr>
                  <a:xfrm>
                    <a:off x="7021440" y="1628640"/>
                    <a:ext cx="319320" cy="1151640"/>
                    <a:chOff x="7021440" y="1628640"/>
                    <a:chExt cx="319320" cy="115164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7076520" y="2159280"/>
                      <a:ext cx="211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9" name=""/>
                    <p:cNvGrpSpPr/>
                    <p:nvPr/>
                  </p:nvGrpSpPr>
                  <p:grpSpPr>
                    <a:xfrm>
                      <a:off x="7021440" y="1628640"/>
                      <a:ext cx="319320" cy="1151640"/>
                      <a:chOff x="7021440" y="1628640"/>
                      <a:chExt cx="319320" cy="1151640"/>
                    </a:xfrm>
                  </p:grpSpPr>
                  <p:sp>
                    <p:nvSpPr>
                      <p:cNvPr id="100" name=""/>
                      <p:cNvSpPr/>
                      <p:nvPr/>
                    </p:nvSpPr>
                    <p:spPr>
                      <a:xfrm>
                        <a:off x="7021440" y="1931760"/>
                        <a:ext cx="319320" cy="28440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" name=""/>
                      <p:cNvSpPr/>
                      <p:nvPr/>
                    </p:nvSpPr>
                    <p:spPr>
                      <a:xfrm>
                        <a:off x="7180920" y="1628640"/>
                        <a:ext cx="0" cy="7603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2" name=""/>
                      <p:cNvSpPr/>
                      <p:nvPr/>
                    </p:nvSpPr>
                    <p:spPr>
                      <a:xfrm rot="10800000">
                        <a:off x="7075080" y="1991880"/>
                        <a:ext cx="211680" cy="1670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000" bIns="9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" name=""/>
                      <p:cNvSpPr/>
                      <p:nvPr/>
                    </p:nvSpPr>
                    <p:spPr>
                      <a:xfrm rot="5400000">
                        <a:off x="6963120" y="2485440"/>
                        <a:ext cx="431280" cy="15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80" h="454">
                            <a:moveTo>
                              <a:pt x="0" y="227"/>
                            </a:moveTo>
                            <a:lnTo>
                              <a:pt x="201" y="224"/>
                            </a:lnTo>
                            <a:lnTo>
                              <a:pt x="272" y="0"/>
                            </a:lnTo>
                            <a:lnTo>
                              <a:pt x="409" y="454"/>
                            </a:lnTo>
                            <a:lnTo>
                              <a:pt x="545" y="0"/>
                            </a:lnTo>
                            <a:lnTo>
                              <a:pt x="681" y="454"/>
                            </a:lnTo>
                            <a:lnTo>
                              <a:pt x="817" y="0"/>
                            </a:lnTo>
                            <a:lnTo>
                              <a:pt x="953" y="454"/>
                            </a:lnTo>
                            <a:lnTo>
                              <a:pt x="1044" y="227"/>
                            </a:lnTo>
                            <a:lnTo>
                              <a:pt x="1180" y="22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04" name=""/>
                  <p:cNvSpPr/>
                  <p:nvPr/>
                </p:nvSpPr>
                <p:spPr>
                  <a:xfrm>
                    <a:off x="7182360" y="2780640"/>
                    <a:ext cx="0" cy="667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" name=""/>
                <p:cNvGrpSpPr/>
                <p:nvPr/>
              </p:nvGrpSpPr>
              <p:grpSpPr>
                <a:xfrm>
                  <a:off x="7351560" y="1628640"/>
                  <a:ext cx="317520" cy="1819080"/>
                  <a:chOff x="7351560" y="1628640"/>
                  <a:chExt cx="317520" cy="1819080"/>
                </a:xfrm>
              </p:grpSpPr>
              <p:grpSp>
                <p:nvGrpSpPr>
                  <p:cNvPr id="106" name=""/>
                  <p:cNvGrpSpPr/>
                  <p:nvPr/>
                </p:nvGrpSpPr>
                <p:grpSpPr>
                  <a:xfrm>
                    <a:off x="7351560" y="1628640"/>
                    <a:ext cx="317520" cy="1151640"/>
                    <a:chOff x="7351560" y="1628640"/>
                    <a:chExt cx="317520" cy="1151640"/>
                  </a:xfrm>
                </p:grpSpPr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7406280" y="2159280"/>
                      <a:ext cx="21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8" name=""/>
                    <p:cNvGrpSpPr/>
                    <p:nvPr/>
                  </p:nvGrpSpPr>
                  <p:grpSpPr>
                    <a:xfrm>
                      <a:off x="7351560" y="1628640"/>
                      <a:ext cx="317520" cy="1151640"/>
                      <a:chOff x="7351560" y="1628640"/>
                      <a:chExt cx="317520" cy="1151640"/>
                    </a:xfrm>
                  </p:grpSpPr>
                  <p:sp>
                    <p:nvSpPr>
                      <p:cNvPr id="109" name=""/>
                      <p:cNvSpPr/>
                      <p:nvPr/>
                    </p:nvSpPr>
                    <p:spPr>
                      <a:xfrm>
                        <a:off x="7351560" y="1931760"/>
                        <a:ext cx="317520" cy="28440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" name=""/>
                      <p:cNvSpPr/>
                      <p:nvPr/>
                    </p:nvSpPr>
                    <p:spPr>
                      <a:xfrm>
                        <a:off x="7509960" y="1628640"/>
                        <a:ext cx="0" cy="7603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" name=""/>
                      <p:cNvSpPr/>
                      <p:nvPr/>
                    </p:nvSpPr>
                    <p:spPr>
                      <a:xfrm rot="10800000">
                        <a:off x="7404840" y="1991880"/>
                        <a:ext cx="210240" cy="1670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000" bIns="9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" name=""/>
                      <p:cNvSpPr/>
                      <p:nvPr/>
                    </p:nvSpPr>
                    <p:spPr>
                      <a:xfrm rot="5400000">
                        <a:off x="7292520" y="2485800"/>
                        <a:ext cx="431280" cy="15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80" h="454">
                            <a:moveTo>
                              <a:pt x="0" y="227"/>
                            </a:moveTo>
                            <a:lnTo>
                              <a:pt x="201" y="224"/>
                            </a:lnTo>
                            <a:lnTo>
                              <a:pt x="272" y="0"/>
                            </a:lnTo>
                            <a:lnTo>
                              <a:pt x="409" y="454"/>
                            </a:lnTo>
                            <a:lnTo>
                              <a:pt x="545" y="0"/>
                            </a:lnTo>
                            <a:lnTo>
                              <a:pt x="681" y="454"/>
                            </a:lnTo>
                            <a:lnTo>
                              <a:pt x="817" y="0"/>
                            </a:lnTo>
                            <a:lnTo>
                              <a:pt x="953" y="454"/>
                            </a:lnTo>
                            <a:lnTo>
                              <a:pt x="1044" y="227"/>
                            </a:lnTo>
                            <a:lnTo>
                              <a:pt x="1180" y="22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13" name=""/>
                  <p:cNvSpPr/>
                  <p:nvPr/>
                </p:nvSpPr>
                <p:spPr>
                  <a:xfrm>
                    <a:off x="7511760" y="2780640"/>
                    <a:ext cx="0" cy="667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7669080" y="1628640"/>
                  <a:ext cx="317520" cy="1819080"/>
                  <a:chOff x="7669080" y="1628640"/>
                  <a:chExt cx="317520" cy="1819080"/>
                </a:xfrm>
              </p:grpSpPr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7669080" y="1628640"/>
                    <a:ext cx="317520" cy="1151640"/>
                    <a:chOff x="7669080" y="1628640"/>
                    <a:chExt cx="317520" cy="115164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7723800" y="2159280"/>
                      <a:ext cx="210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7" name=""/>
                    <p:cNvGrpSpPr/>
                    <p:nvPr/>
                  </p:nvGrpSpPr>
                  <p:grpSpPr>
                    <a:xfrm>
                      <a:off x="7669080" y="1628640"/>
                      <a:ext cx="317520" cy="1151640"/>
                      <a:chOff x="7669080" y="1628640"/>
                      <a:chExt cx="317520" cy="1151640"/>
                    </a:xfrm>
                  </p:grpSpPr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7669080" y="1931760"/>
                        <a:ext cx="317520" cy="28440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" name=""/>
                      <p:cNvSpPr/>
                      <p:nvPr/>
                    </p:nvSpPr>
                    <p:spPr>
                      <a:xfrm>
                        <a:off x="7827480" y="1628640"/>
                        <a:ext cx="0" cy="7603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" name=""/>
                      <p:cNvSpPr/>
                      <p:nvPr/>
                    </p:nvSpPr>
                    <p:spPr>
                      <a:xfrm rot="10800000">
                        <a:off x="7722360" y="1991880"/>
                        <a:ext cx="210240" cy="1670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000" bIns="9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 rot="5400000">
                        <a:off x="7610040" y="2485800"/>
                        <a:ext cx="431280" cy="15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80" h="454">
                            <a:moveTo>
                              <a:pt x="0" y="227"/>
                            </a:moveTo>
                            <a:lnTo>
                              <a:pt x="201" y="224"/>
                            </a:lnTo>
                            <a:lnTo>
                              <a:pt x="272" y="0"/>
                            </a:lnTo>
                            <a:lnTo>
                              <a:pt x="409" y="454"/>
                            </a:lnTo>
                            <a:lnTo>
                              <a:pt x="545" y="0"/>
                            </a:lnTo>
                            <a:lnTo>
                              <a:pt x="681" y="454"/>
                            </a:lnTo>
                            <a:lnTo>
                              <a:pt x="817" y="0"/>
                            </a:lnTo>
                            <a:lnTo>
                              <a:pt x="953" y="454"/>
                            </a:lnTo>
                            <a:lnTo>
                              <a:pt x="1044" y="227"/>
                            </a:lnTo>
                            <a:lnTo>
                              <a:pt x="1180" y="22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22" name=""/>
                  <p:cNvSpPr/>
                  <p:nvPr/>
                </p:nvSpPr>
                <p:spPr>
                  <a:xfrm>
                    <a:off x="7829280" y="2780640"/>
                    <a:ext cx="0" cy="667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7997760" y="1628640"/>
                  <a:ext cx="319320" cy="1819080"/>
                  <a:chOff x="7997760" y="1628640"/>
                  <a:chExt cx="319320" cy="1819080"/>
                </a:xfrm>
              </p:grpSpPr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7997760" y="1628640"/>
                    <a:ext cx="319320" cy="1151640"/>
                    <a:chOff x="7997760" y="1628640"/>
                    <a:chExt cx="319320" cy="115164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8052840" y="2159280"/>
                      <a:ext cx="211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6" name=""/>
                    <p:cNvGrpSpPr/>
                    <p:nvPr/>
                  </p:nvGrpSpPr>
                  <p:grpSpPr>
                    <a:xfrm>
                      <a:off x="7997760" y="1628640"/>
                      <a:ext cx="319320" cy="1151640"/>
                      <a:chOff x="7997760" y="1628640"/>
                      <a:chExt cx="319320" cy="1151640"/>
                    </a:xfrm>
                  </p:grpSpPr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7997760" y="1931760"/>
                        <a:ext cx="319320" cy="28440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" name=""/>
                      <p:cNvSpPr/>
                      <p:nvPr/>
                    </p:nvSpPr>
                    <p:spPr>
                      <a:xfrm>
                        <a:off x="8157240" y="1628640"/>
                        <a:ext cx="0" cy="760320"/>
                      </a:xfrm>
                      <a:prstGeom prst="line">
                        <a:avLst/>
                      </a:prstGeom>
                      <a:ln w="284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" name=""/>
                      <p:cNvSpPr/>
                      <p:nvPr/>
                    </p:nvSpPr>
                    <p:spPr>
                      <a:xfrm rot="10800000">
                        <a:off x="8051400" y="1991880"/>
                        <a:ext cx="211680" cy="167040"/>
                      </a:xfrm>
                      <a:prstGeom prst="triangle">
                        <a:avLst>
                          <a:gd name="adj" fmla="val 5000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9000" bIns="9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" name=""/>
                      <p:cNvSpPr/>
                      <p:nvPr/>
                    </p:nvSpPr>
                    <p:spPr>
                      <a:xfrm rot="5400000">
                        <a:off x="7939440" y="2485440"/>
                        <a:ext cx="431280" cy="15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80" h="454">
                            <a:moveTo>
                              <a:pt x="0" y="227"/>
                            </a:moveTo>
                            <a:lnTo>
                              <a:pt x="201" y="224"/>
                            </a:lnTo>
                            <a:lnTo>
                              <a:pt x="272" y="0"/>
                            </a:lnTo>
                            <a:lnTo>
                              <a:pt x="409" y="454"/>
                            </a:lnTo>
                            <a:lnTo>
                              <a:pt x="545" y="0"/>
                            </a:lnTo>
                            <a:lnTo>
                              <a:pt x="681" y="454"/>
                            </a:lnTo>
                            <a:lnTo>
                              <a:pt x="817" y="0"/>
                            </a:lnTo>
                            <a:lnTo>
                              <a:pt x="953" y="454"/>
                            </a:lnTo>
                            <a:lnTo>
                              <a:pt x="1044" y="227"/>
                            </a:lnTo>
                            <a:lnTo>
                              <a:pt x="1180" y="22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1" name=""/>
                  <p:cNvSpPr/>
                  <p:nvPr/>
                </p:nvSpPr>
                <p:spPr>
                  <a:xfrm>
                    <a:off x="8158680" y="2780640"/>
                    <a:ext cx="0" cy="667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4280040" y="1612800"/>
                  <a:ext cx="3887640" cy="1800"/>
                </a:xfrm>
                <a:custGeom>
                  <a:avLst/>
                  <a:gdLst/>
                  <a:ahLst/>
                  <a:rect l="l" t="t" r="r" b="b"/>
                  <a:pathLst>
                    <a:path w="2449" h="1">
                      <a:moveTo>
                        <a:pt x="0" y="0"/>
                      </a:moveTo>
                      <a:lnTo>
                        <a:pt x="2449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284720" y="1628640"/>
                  <a:ext cx="0" cy="180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068720" y="1197000"/>
                <a:ext cx="4680000" cy="3024000"/>
                <a:chOff x="4068720" y="1197000"/>
                <a:chExt cx="4680000" cy="30240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068720" y="3429000"/>
                  <a:ext cx="4680000" cy="504720"/>
                </a:xfrm>
                <a:prstGeom prst="rect">
                  <a:avLst/>
                </a:prstGeom>
                <a:solidFill>
                  <a:srgbClr val="00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559400" y="3932280"/>
                  <a:ext cx="144360" cy="2887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873680" y="3932280"/>
                  <a:ext cx="144360" cy="2887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173560" y="3932280"/>
                  <a:ext cx="144720" cy="2887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460840" y="3932280"/>
                  <a:ext cx="144720" cy="2887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775480" y="3932280"/>
                  <a:ext cx="144360" cy="2887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110280" y="3932280"/>
                  <a:ext cx="144360" cy="2887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469200" y="3932280"/>
                  <a:ext cx="144360" cy="2887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783480" y="3932280"/>
                  <a:ext cx="144360" cy="2887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118280" y="3932280"/>
                  <a:ext cx="144360" cy="2887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443720" y="3932280"/>
                  <a:ext cx="144360" cy="2887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753320" y="3932280"/>
                  <a:ext cx="144360" cy="2887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101080" y="3932280"/>
                  <a:ext cx="144360" cy="2887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389800" y="3932280"/>
                  <a:ext cx="144720" cy="2887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211640" y="3932280"/>
                  <a:ext cx="144360" cy="28872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967520" y="119700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ff"/>
                      </a:solidFill>
                      <a:latin typeface="Times New Roman"/>
                    </a:rPr>
                    <a:t>Ａ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618320" y="119700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ff"/>
                      </a:solidFill>
                      <a:latin typeface="Times New Roman"/>
                    </a:rPr>
                    <a:t>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286400" y="119700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ff"/>
                      </a:solidFill>
                      <a:latin typeface="Times New Roman"/>
                    </a:rPr>
                    <a:t>Ｃ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991920" y="119700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ff"/>
                      </a:solidFill>
                      <a:latin typeface="Times New Roman"/>
                    </a:rPr>
                    <a:t>Ｄ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672240" y="119700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ff"/>
                      </a:solidFill>
                      <a:latin typeface="Times New Roman"/>
                    </a:rPr>
                    <a:t>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354000" y="119700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ff"/>
                      </a:solidFill>
                      <a:latin typeface="Times New Roman"/>
                    </a:rPr>
                    <a:t>Ｆ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997600" y="119700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ff"/>
                      </a:solidFill>
                      <a:latin typeface="Times New Roman"/>
                    </a:rPr>
                    <a:t>Ｇ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685480" y="119700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ff"/>
                      </a:solidFill>
                      <a:latin typeface="Times New Roman"/>
                    </a:rPr>
                    <a:t>Ｈ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" name=""/>
            <p:cNvSpPr/>
            <p:nvPr/>
          </p:nvSpPr>
          <p:spPr>
            <a:xfrm>
              <a:off x="5842080" y="3429000"/>
              <a:ext cx="0" cy="50472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94520" y="3429000"/>
              <a:ext cx="0" cy="50472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12120" y="3429000"/>
              <a:ext cx="0" cy="50472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29320" y="3429000"/>
              <a:ext cx="0" cy="50472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0080" y="3429000"/>
              <a:ext cx="0" cy="50472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76960" y="3429000"/>
              <a:ext cx="0" cy="50472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24960" y="3429000"/>
              <a:ext cx="0" cy="50472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59760" y="3429000"/>
              <a:ext cx="0" cy="50472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590080" y="6093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ポート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88800" y="6093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ポート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84720" y="3429000"/>
            <a:ext cx="0" cy="5047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4149720"/>
            <a:ext cx="1079280" cy="1366920"/>
          </a:xfrm>
          <a:custGeom>
            <a:avLst/>
            <a:gdLst/>
            <a:ahLst/>
            <a:rect l="l" t="t" r="r" b="b"/>
            <a:pathLst>
              <a:path w="680" h="861">
                <a:moveTo>
                  <a:pt x="0" y="0"/>
                </a:moveTo>
                <a:lnTo>
                  <a:pt x="0" y="861"/>
                </a:lnTo>
                <a:lnTo>
                  <a:pt x="680" y="861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08960" y="4149720"/>
            <a:ext cx="576360" cy="1727280"/>
          </a:xfrm>
          <a:custGeom>
            <a:avLst/>
            <a:gdLst/>
            <a:ahLst/>
            <a:rect l="l" t="t" r="r" b="b"/>
            <a:pathLst>
              <a:path w="363" h="1088">
                <a:moveTo>
                  <a:pt x="0" y="1088"/>
                </a:moveTo>
                <a:lnTo>
                  <a:pt x="91" y="1088"/>
                </a:lnTo>
                <a:lnTo>
                  <a:pt x="91" y="272"/>
                </a:lnTo>
                <a:lnTo>
                  <a:pt x="363" y="272"/>
                </a:lnTo>
                <a:lnTo>
                  <a:pt x="363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96360" y="4152960"/>
            <a:ext cx="239400" cy="1363680"/>
          </a:xfrm>
          <a:custGeom>
            <a:avLst/>
            <a:gdLst/>
            <a:ahLst/>
            <a:rect l="l" t="t" r="r" b="b"/>
            <a:pathLst>
              <a:path w="151" h="859">
                <a:moveTo>
                  <a:pt x="0" y="859"/>
                </a:moveTo>
                <a:lnTo>
                  <a:pt x="0" y="179"/>
                </a:lnTo>
                <a:lnTo>
                  <a:pt x="151" y="176"/>
                </a:lnTo>
                <a:lnTo>
                  <a:pt x="151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36000" y="4149720"/>
            <a:ext cx="288720" cy="1727280"/>
          </a:xfrm>
          <a:custGeom>
            <a:avLst/>
            <a:gdLst/>
            <a:ahLst/>
            <a:rect l="l" t="t" r="r" b="b"/>
            <a:pathLst>
              <a:path w="182" h="1088">
                <a:moveTo>
                  <a:pt x="0" y="1088"/>
                </a:moveTo>
                <a:lnTo>
                  <a:pt x="91" y="1088"/>
                </a:lnTo>
                <a:lnTo>
                  <a:pt x="91" y="136"/>
                </a:lnTo>
                <a:lnTo>
                  <a:pt x="182" y="136"/>
                </a:lnTo>
                <a:lnTo>
                  <a:pt x="182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189920" y="4149360"/>
            <a:ext cx="1440" cy="1366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0" y="4165560"/>
            <a:ext cx="162000" cy="1711440"/>
          </a:xfrm>
          <a:custGeom>
            <a:avLst/>
            <a:gdLst/>
            <a:ahLst/>
            <a:rect l="l" t="t" r="r" b="b"/>
            <a:pathLst>
              <a:path w="102" h="1078">
                <a:moveTo>
                  <a:pt x="12" y="1078"/>
                </a:moveTo>
                <a:lnTo>
                  <a:pt x="102" y="1078"/>
                </a:lnTo>
                <a:lnTo>
                  <a:pt x="102" y="262"/>
                </a:lnTo>
                <a:lnTo>
                  <a:pt x="0" y="2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27880" y="4152960"/>
            <a:ext cx="276120" cy="1363680"/>
          </a:xfrm>
          <a:custGeom>
            <a:avLst/>
            <a:gdLst/>
            <a:ahLst/>
            <a:rect l="l" t="t" r="r" b="b"/>
            <a:pathLst>
              <a:path w="174" h="859">
                <a:moveTo>
                  <a:pt x="174" y="859"/>
                </a:moveTo>
                <a:lnTo>
                  <a:pt x="83" y="859"/>
                </a:lnTo>
                <a:lnTo>
                  <a:pt x="72" y="272"/>
                </a:lnTo>
                <a:lnTo>
                  <a:pt x="0" y="27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29480" y="4140360"/>
            <a:ext cx="614160" cy="1376280"/>
          </a:xfrm>
          <a:custGeom>
            <a:avLst/>
            <a:gdLst/>
            <a:ahLst/>
            <a:rect l="l" t="t" r="r" b="b"/>
            <a:pathLst>
              <a:path w="387" h="867">
                <a:moveTo>
                  <a:pt x="387" y="867"/>
                </a:moveTo>
                <a:lnTo>
                  <a:pt x="297" y="867"/>
                </a:lnTo>
                <a:lnTo>
                  <a:pt x="297" y="278"/>
                </a:lnTo>
                <a:lnTo>
                  <a:pt x="0" y="2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4140360"/>
            <a:ext cx="344520" cy="1736640"/>
          </a:xfrm>
          <a:custGeom>
            <a:avLst/>
            <a:gdLst/>
            <a:ahLst/>
            <a:rect l="l" t="t" r="r" b="b"/>
            <a:pathLst>
              <a:path w="217" h="1094">
                <a:moveTo>
                  <a:pt x="217" y="1094"/>
                </a:moveTo>
                <a:lnTo>
                  <a:pt x="217" y="323"/>
                </a:lnTo>
                <a:lnTo>
                  <a:pt x="126" y="323"/>
                </a:lnTo>
                <a:lnTo>
                  <a:pt x="126" y="187"/>
                </a:ln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>
            <a:lum bright="12000"/>
          </a:blip>
          <a:srcRect l="3017" t="0" r="6112" b="0"/>
          <a:stretch/>
        </p:blipFill>
        <p:spPr>
          <a:xfrm>
            <a:off x="395280" y="1714680"/>
            <a:ext cx="3168720" cy="27939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366920" y="404640"/>
            <a:ext cx="64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ff"/>
                </a:solidFill>
                <a:latin typeface="ＭＳ Ｐゴシック"/>
              </a:rPr>
              <a:t>ＷｉｎｄｏｗｓＸＰによるＬＥＤの制御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1124280"/>
            <a:ext cx="26636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ＬＥＤ基盤との接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3429000"/>
            <a:ext cx="1800360" cy="576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95640" y="5589720"/>
            <a:ext cx="1152720" cy="360360"/>
          </a:xfrm>
          <a:prstGeom prst="rightArrow">
            <a:avLst>
              <a:gd name="adj1" fmla="val 50000"/>
              <a:gd name="adj2" fmla="val 79970"/>
            </a:avLst>
          </a:prstGeom>
          <a:solidFill>
            <a:srgbClr val="ffff66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2518920" y="4257720"/>
            <a:ext cx="865080" cy="360360"/>
          </a:xfrm>
          <a:prstGeom prst="rightArrow">
            <a:avLst>
              <a:gd name="adj1" fmla="val 50000"/>
              <a:gd name="adj2" fmla="val 60015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38760" y="234936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３３０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211720" y="4583160"/>
            <a:ext cx="2889000" cy="1511280"/>
            <a:chOff x="5211720" y="4583160"/>
            <a:chExt cx="2889000" cy="1511280"/>
          </a:xfrm>
        </p:grpSpPr>
        <p:sp>
          <p:nvSpPr>
            <p:cNvPr id="186" name=""/>
            <p:cNvSpPr/>
            <p:nvPr/>
          </p:nvSpPr>
          <p:spPr>
            <a:xfrm rot="5400000">
              <a:off x="7220880" y="4795920"/>
              <a:ext cx="68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１　０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5400000">
              <a:off x="6495480" y="4795920"/>
              <a:ext cx="68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５　４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5400000">
              <a:off x="6160320" y="4795920"/>
              <a:ext cx="68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７　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5400000">
              <a:off x="5774760" y="4795920"/>
              <a:ext cx="68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１　０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5414400" y="4794480"/>
              <a:ext cx="68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３　２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7521120" y="4794120"/>
              <a:ext cx="7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ＧＮＤ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5400000">
              <a:off x="4980600" y="4845600"/>
              <a:ext cx="83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ＶＣＣ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5400000">
              <a:off x="7808040" y="5445720"/>
              <a:ext cx="217440" cy="216000"/>
            </a:xfrm>
            <a:prstGeom prst="ellips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5400000">
              <a:off x="7808040" y="5806080"/>
              <a:ext cx="217440" cy="216000"/>
            </a:xfrm>
            <a:prstGeom prst="ellips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5400000">
              <a:off x="7458840" y="5445720"/>
              <a:ext cx="21744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7458840" y="5806080"/>
              <a:ext cx="21744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5400000">
              <a:off x="7093800" y="5445720"/>
              <a:ext cx="21744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5400000">
              <a:off x="7093800" y="5806080"/>
              <a:ext cx="21744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5400000">
              <a:off x="6726960" y="5445720"/>
              <a:ext cx="21744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6726960" y="5806080"/>
              <a:ext cx="21744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5400000">
              <a:off x="6373080" y="5445720"/>
              <a:ext cx="21744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6373080" y="5806080"/>
              <a:ext cx="21744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400000">
              <a:off x="6006240" y="5445720"/>
              <a:ext cx="21744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400000">
              <a:off x="6006240" y="5806080"/>
              <a:ext cx="21744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00000">
              <a:off x="5647680" y="5445720"/>
              <a:ext cx="21744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5400000">
              <a:off x="5647680" y="5806080"/>
              <a:ext cx="21744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5400000">
              <a:off x="5287320" y="5445720"/>
              <a:ext cx="217440" cy="2160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5400000">
              <a:off x="5287320" y="5806080"/>
              <a:ext cx="217440" cy="2160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5400000">
              <a:off x="6654240" y="5032080"/>
              <a:ext cx="727200" cy="1397160"/>
            </a:xfrm>
            <a:custGeom>
              <a:avLst/>
              <a:gdLst/>
              <a:ahLst/>
              <a:rect l="l" t="t" r="r" b="b"/>
              <a:pathLst>
                <a:path w="458" h="880">
                  <a:moveTo>
                    <a:pt x="4" y="0"/>
                  </a:moveTo>
                  <a:lnTo>
                    <a:pt x="458" y="0"/>
                  </a:lnTo>
                  <a:lnTo>
                    <a:pt x="456" y="880"/>
                  </a:lnTo>
                  <a:lnTo>
                    <a:pt x="0" y="880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5400000">
              <a:off x="5569200" y="5396400"/>
              <a:ext cx="720720" cy="675000"/>
            </a:xfrm>
            <a:custGeom>
              <a:avLst/>
              <a:gdLst/>
              <a:ahLst/>
              <a:rect l="l" t="t" r="r" b="b"/>
              <a:pathLst>
                <a:path w="454" h="425">
                  <a:moveTo>
                    <a:pt x="4" y="0"/>
                  </a:moveTo>
                  <a:lnTo>
                    <a:pt x="452" y="0"/>
                  </a:lnTo>
                  <a:lnTo>
                    <a:pt x="454" y="425"/>
                  </a:lnTo>
                  <a:lnTo>
                    <a:pt x="0" y="425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5400000">
              <a:off x="6900120" y="4795920"/>
              <a:ext cx="68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３　２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366920" y="404640"/>
            <a:ext cx="64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ff"/>
                </a:solidFill>
                <a:latin typeface="ＭＳ Ｐゴシック"/>
              </a:rPr>
              <a:t>ＷｉｎｄｏｗｓＸＰによるＬＥＤの制御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480000" cy="389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2010600" y="1124280"/>
            <a:ext cx="941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エクセル制御ソフトの使用方法　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3840" y="1052640"/>
            <a:ext cx="26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シートは保護してあり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編集する場合は解除してください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51120" y="573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36800" y="3860640"/>
            <a:ext cx="1212480" cy="946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実行画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　ディスプレイ上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　点灯・消灯状態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　表示し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 rot="5400000">
            <a:off x="2519280" y="2815920"/>
            <a:ext cx="14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ＭＳ Ｐ明朝"/>
              </a:rPr>
              <a:t>｝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ＭＳ Ｐ明朝"/>
              <a:ea typeface="ＭＳ Ｐ明朝"/>
            </a:endParaRPr>
          </a:p>
        </p:txBody>
      </p:sp>
      <p:sp>
        <p:nvSpPr>
          <p:cNvPr id="219" name=""/>
          <p:cNvSpPr/>
          <p:nvPr/>
        </p:nvSpPr>
        <p:spPr>
          <a:xfrm>
            <a:off x="1619280" y="4941720"/>
            <a:ext cx="2160720" cy="52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プログラム初期化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　リストが消去され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989000"/>
            <a:ext cx="1332000" cy="1372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数値自動計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　点灯させるＬＡＥに１，消灯させるＬＥＤに　０を入力する　ことにより、プログラムに必要な数値を自動的に表示され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1400" spc="-1" strike="noStrike" u="sng">
                <a:solidFill>
                  <a:srgbClr val="000000"/>
                </a:solidFill>
                <a:uFillTx/>
                <a:latin typeface="Times New Roman"/>
              </a:rPr>
              <a:t>初期化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ボタ　ンにより０，１のデータは消去され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47640" y="2276640"/>
            <a:ext cx="2664000" cy="865080"/>
          </a:xfrm>
          <a:prstGeom prst="roundRect">
            <a:avLst>
              <a:gd name="adj" fmla="val 847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3716280"/>
            <a:ext cx="935280" cy="1441440"/>
          </a:xfrm>
          <a:custGeom>
            <a:avLst/>
            <a:gdLst>
              <a:gd name="textAreaLeft" fmla="*/ 23040 w 935280"/>
              <a:gd name="textAreaRight" fmla="*/ 912240 w 935280"/>
              <a:gd name="textAreaTop" fmla="*/ 23040 h 1441440"/>
              <a:gd name="textAreaBottom" fmla="*/ 1418400 h 1441440"/>
            </a:gdLst>
            <a:ahLst/>
            <a:rect l="textAreaLeft" t="textAreaTop" r="textAreaRight" b="textAreaBottom"/>
            <a:pathLst>
              <a:path w="21600" h="33285">
                <a:moveTo>
                  <a:pt x="1831" y="0"/>
                </a:moveTo>
                <a:arcTo wR="1831" hR="1831" stAng="16200000" swAng="-5400000"/>
                <a:lnTo>
                  <a:pt x="0" y="31454"/>
                </a:lnTo>
                <a:arcTo wR="1831" hR="1831" stAng="10800000" swAng="-5400000"/>
                <a:lnTo>
                  <a:pt x="19769" y="33285"/>
                </a:lnTo>
                <a:arcTo wR="1831" hR="1831" stAng="5400000" swAng="-5400000"/>
                <a:lnTo>
                  <a:pt x="21600" y="1831"/>
                </a:lnTo>
                <a:arcTo wR="1831" hR="1831" stAng="0" swAng="-5400000"/>
                <a:close/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9680" y="2360520"/>
            <a:ext cx="3245040" cy="687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ff"/>
                </a:solidFill>
                <a:latin typeface="Times New Roman"/>
              </a:rPr>
              <a:t>プログラムの実行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Times New Roman"/>
              </a:rPr>
              <a:t>プログラムの実行ボタンをクリックすると、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3300"/>
                </a:solidFill>
                <a:latin typeface="Times New Roman"/>
              </a:rPr>
              <a:t>リスト</a:t>
            </a:r>
            <a:r>
              <a:rPr b="1" lang="zh-CN" sz="1300" spc="-1" strike="noStrike">
                <a:solidFill>
                  <a:srgbClr val="000000"/>
                </a:solidFill>
                <a:latin typeface="Times New Roman"/>
              </a:rPr>
              <a:t>に示されたプログラムが実行されます。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364000" y="2637000"/>
            <a:ext cx="432000" cy="36036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148360" y="3022200"/>
            <a:ext cx="720720" cy="647640"/>
          </a:xfrm>
          <a:prstGeom prst="line">
            <a:avLst/>
          </a:prstGeom>
          <a:ln cap="rnd" w="9360">
            <a:solidFill>
              <a:srgbClr val="ff33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16360" y="1649520"/>
            <a:ext cx="424836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基本設定：　</a:t>
            </a:r>
            <a:r>
              <a:rPr b="1" lang="zh-CN" sz="1400" spc="-1" strike="noStrike">
                <a:solidFill>
                  <a:srgbClr val="008000"/>
                </a:solidFill>
                <a:latin typeface="Times New Roman"/>
              </a:rPr>
              <a:t>繰返し回数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1" lang="zh-CN" sz="1400" spc="-1" strike="noStrike">
                <a:solidFill>
                  <a:srgbClr val="3333cc"/>
                </a:solidFill>
                <a:latin typeface="Times New Roman"/>
              </a:rPr>
              <a:t>基本スピード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を設定します。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003640" y="1915920"/>
            <a:ext cx="720720" cy="36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508720" y="1915920"/>
            <a:ext cx="1295280" cy="36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5445000"/>
            <a:ext cx="4537080" cy="52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時間の入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　処理する時間は、</a:t>
            </a:r>
            <a:r>
              <a:rPr b="1" lang="zh-CN" sz="1400" spc="-1" strike="noStrike">
                <a:solidFill>
                  <a:srgbClr val="3333cc"/>
                </a:solidFill>
                <a:latin typeface="Times New Roman"/>
              </a:rPr>
              <a:t>基本スピード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1" lang="zh-CN" sz="1400" spc="-1" strike="noStrike">
                <a:solidFill>
                  <a:srgbClr val="33ccff"/>
                </a:solidFill>
                <a:latin typeface="Times New Roman"/>
              </a:rPr>
              <a:t>時間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で決められます。コンピュータのＣＰＵ等により、処理速度は異なるため、あらかじめ１秒間処理するための数値を基準としてもっているとよいで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19280" y="3141720"/>
            <a:ext cx="1944720" cy="574560"/>
          </a:xfrm>
          <a:prstGeom prst="roundRect">
            <a:avLst>
              <a:gd name="adj" fmla="val 847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2205000"/>
            <a:ext cx="504720" cy="287280"/>
          </a:xfrm>
          <a:prstGeom prst="line">
            <a:avLst/>
          </a:prstGeom>
          <a:ln cap="rnd" w="9360">
            <a:solidFill>
              <a:srgbClr val="008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59280" y="3429000"/>
            <a:ext cx="1225440" cy="1584360"/>
          </a:xfrm>
          <a:custGeom>
            <a:avLst/>
            <a:gdLst/>
            <a:ahLst/>
            <a:rect l="l" t="t" r="r" b="b"/>
            <a:pathLst>
              <a:path w="772" h="998">
                <a:moveTo>
                  <a:pt x="0" y="998"/>
                </a:moveTo>
                <a:lnTo>
                  <a:pt x="617" y="736"/>
                </a:lnTo>
                <a:lnTo>
                  <a:pt x="772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8000" y="5938920"/>
            <a:ext cx="4176720" cy="52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インターフェイスへの出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　「無」の場合は、インターフェイスへ出力しない。インターフェイスへ出力させるには、「有」を選択し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95640" y="3718080"/>
            <a:ext cx="1655640" cy="2377800"/>
          </a:xfrm>
          <a:custGeom>
            <a:avLst/>
            <a:gdLst/>
            <a:ahLst/>
            <a:rect l="l" t="t" r="r" b="b"/>
            <a:pathLst>
              <a:path w="1043" h="1498">
                <a:moveTo>
                  <a:pt x="0" y="1497"/>
                </a:moveTo>
                <a:lnTo>
                  <a:pt x="945" y="1498"/>
                </a:lnTo>
                <a:lnTo>
                  <a:pt x="104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364000" y="5157720"/>
            <a:ext cx="0" cy="43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1280" y="2708280"/>
            <a:ext cx="2952720" cy="1657440"/>
          </a:xfrm>
          <a:custGeom>
            <a:avLst/>
            <a:gdLst/>
            <a:ahLst/>
            <a:rect l="l" t="t" r="r" b="b"/>
            <a:pathLst>
              <a:path w="1860" h="1044">
                <a:moveTo>
                  <a:pt x="0" y="1044"/>
                </a:moveTo>
                <a:lnTo>
                  <a:pt x="375" y="910"/>
                </a:lnTo>
                <a:lnTo>
                  <a:pt x="391" y="14"/>
                </a:lnTo>
                <a:lnTo>
                  <a:pt x="186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366920" y="404640"/>
            <a:ext cx="64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ff"/>
                </a:solidFill>
                <a:latin typeface="ＭＳ Ｐゴシック"/>
              </a:rPr>
              <a:t>ＷｉｎｄｏｗｓＸＰによるＬＥＤの制御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238" name=""/>
          <p:cNvSpPr/>
          <p:nvPr/>
        </p:nvSpPr>
        <p:spPr>
          <a:xfrm>
            <a:off x="2009160" y="1124280"/>
            <a:ext cx="941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エクセル制御ソフトの使用方法　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2560" y="1052640"/>
            <a:ext cx="26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シートは保護してあり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編集する場合は解除してください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51120" y="573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4895640" cy="4208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2"/>
          <a:srcRect l="42213" t="0" r="31111" b="0"/>
          <a:stretch/>
        </p:blipFill>
        <p:spPr>
          <a:xfrm>
            <a:off x="6270480" y="1762200"/>
            <a:ext cx="1729080" cy="3898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918480" y="3490920"/>
            <a:ext cx="936360" cy="1440000"/>
          </a:xfrm>
          <a:custGeom>
            <a:avLst/>
            <a:gdLst>
              <a:gd name="textAreaLeft" fmla="*/ 26640 w 936360"/>
              <a:gd name="textAreaRight" fmla="*/ 909720 w 936360"/>
              <a:gd name="textAreaTop" fmla="*/ 26640 h 1440000"/>
              <a:gd name="textAreaBottom" fmla="*/ 1413360 h 1440000"/>
            </a:gdLst>
            <a:ahLst/>
            <a:rect l="textAreaLeft" t="textAreaTop" r="textAreaRight" b="textAreaBottom"/>
            <a:pathLst>
              <a:path w="21600" h="33214">
                <a:moveTo>
                  <a:pt x="2123" y="0"/>
                </a:moveTo>
                <a:arcTo wR="2123" hR="2123" stAng="16200000" swAng="-5400000"/>
                <a:lnTo>
                  <a:pt x="0" y="31091"/>
                </a:lnTo>
                <a:arcTo wR="2123" hR="2123" stAng="10800000" swAng="-5400000"/>
                <a:lnTo>
                  <a:pt x="19477" y="33214"/>
                </a:lnTo>
                <a:arcTo wR="2123" hR="2123" stAng="5400000" swAng="-5400000"/>
                <a:lnTo>
                  <a:pt x="21600" y="2123"/>
                </a:lnTo>
                <a:arcTo wR="2123" hR="2123" stAng="0" swAng="-5400000"/>
                <a:close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35280" y="3538440"/>
            <a:ext cx="936720" cy="1440000"/>
          </a:xfrm>
          <a:custGeom>
            <a:avLst/>
            <a:gdLst>
              <a:gd name="textAreaLeft" fmla="*/ 26640 w 936720"/>
              <a:gd name="textAreaRight" fmla="*/ 910080 w 936720"/>
              <a:gd name="textAreaTop" fmla="*/ 26640 h 1440000"/>
              <a:gd name="textAreaBottom" fmla="*/ 1413360 h 1440000"/>
            </a:gdLst>
            <a:ahLst/>
            <a:rect l="textAreaLeft" t="textAreaTop" r="textAreaRight" b="textAreaBottom"/>
            <a:pathLst>
              <a:path w="21600" h="33201">
                <a:moveTo>
                  <a:pt x="2123" y="0"/>
                </a:moveTo>
                <a:arcTo wR="2123" hR="2123" stAng="16200000" swAng="-5400000"/>
                <a:lnTo>
                  <a:pt x="0" y="31078"/>
                </a:lnTo>
                <a:arcTo wR="2123" hR="2123" stAng="10800000" swAng="-5400000"/>
                <a:lnTo>
                  <a:pt x="19477" y="33201"/>
                </a:lnTo>
                <a:arcTo wR="2123" hR="2123" stAng="5400000" swAng="-5400000"/>
                <a:lnTo>
                  <a:pt x="21600" y="2123"/>
                </a:lnTo>
                <a:arcTo wR="2123" hR="2123" stAng="0" swAng="-5400000"/>
                <a:close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13400" y="4221000"/>
            <a:ext cx="2233440" cy="360360"/>
          </a:xfrm>
          <a:prstGeom prst="rightArrow">
            <a:avLst>
              <a:gd name="adj1" fmla="val 59750"/>
              <a:gd name="adj2" fmla="val 102292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71360" y="1596960"/>
            <a:ext cx="1041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</a:t>
            </a:r>
            <a:r>
              <a:rPr b="1" lang="zh-CN" sz="1400" spc="-1" strike="noStrike" u="sng">
                <a:solidFill>
                  <a:srgbClr val="0000ff"/>
                </a:solidFill>
                <a:uFillTx/>
                <a:latin typeface="Times New Roman"/>
                <a:ea typeface="ＭＳ ゴシック"/>
              </a:rPr>
              <a:t>添付ボタン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をクリックすると「ＬＥＤ制御プログラム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のシートに貼り付けられ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・「サンプルプログラム」のシートに作成したプログラ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　を保存でき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763640" y="1844640"/>
            <a:ext cx="3313080" cy="1008000"/>
            <a:chOff x="1763640" y="1844640"/>
            <a:chExt cx="3313080" cy="1008000"/>
          </a:xfrm>
        </p:grpSpPr>
        <p:sp>
          <p:nvSpPr>
            <p:cNvPr id="248" name=""/>
            <p:cNvSpPr/>
            <p:nvPr/>
          </p:nvSpPr>
          <p:spPr>
            <a:xfrm>
              <a:off x="1763640" y="1844640"/>
              <a:ext cx="287280" cy="100800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63640" y="1844640"/>
              <a:ext cx="1224000" cy="100800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63640" y="1844640"/>
              <a:ext cx="2303640" cy="100800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63640" y="1844640"/>
              <a:ext cx="3313080" cy="100800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366920" y="404640"/>
            <a:ext cx="64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ff"/>
                </a:solidFill>
                <a:latin typeface="ＭＳ Ｐゴシック"/>
              </a:rPr>
              <a:t>ＷｉｎｄｏｗｓＸＰによるＬＥＤの制御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480000" cy="389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4" name=""/>
          <p:cNvSpPr/>
          <p:nvPr/>
        </p:nvSpPr>
        <p:spPr>
          <a:xfrm>
            <a:off x="1110600" y="1124280"/>
            <a:ext cx="27410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エクセル制御ソフト活用の工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43840" y="1052640"/>
            <a:ext cx="26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シートは保護してあり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Times New Roman"/>
              </a:rPr>
              <a:t>編集する場合は解除してください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51120" y="573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 rot="5400000">
            <a:off x="6660000" y="1268640"/>
            <a:ext cx="1443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ＭＳ Ｐ明朝"/>
              </a:rPr>
              <a:t>｝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ＭＳ Ｐ明朝"/>
              <a:ea typeface="ＭＳ Ｐ明朝"/>
            </a:endParaRPr>
          </a:p>
        </p:txBody>
      </p:sp>
      <p:sp>
        <p:nvSpPr>
          <p:cNvPr id="258" name=""/>
          <p:cNvSpPr/>
          <p:nvPr/>
        </p:nvSpPr>
        <p:spPr>
          <a:xfrm>
            <a:off x="2000160" y="4005360"/>
            <a:ext cx="1746000" cy="1372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活用方法の工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　この部分を非表示にするな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活用方法を工夫すると、生徒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とって抵抗が増し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　（適度抵抗のある学習活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　　が展開できます。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43280" y="5950080"/>
            <a:ext cx="2520720" cy="52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Times New Roman"/>
              </a:rPr>
              <a:t>サンプルプログラムのシー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　次スライドで説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916360" y="5877000"/>
            <a:ext cx="0" cy="21600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 rot="5400000">
            <a:off x="2808000" y="944280"/>
            <a:ext cx="1429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ＭＳ Ｐ明朝"/>
              </a:rPr>
              <a:t>｝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ＭＳ Ｐ明朝"/>
              <a:ea typeface="ＭＳ Ｐ明朝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268360" y="2349360"/>
            <a:ext cx="574920" cy="165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411280" y="2349000"/>
            <a:ext cx="4248360" cy="158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366920" y="404640"/>
            <a:ext cx="64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ff"/>
                </a:solidFill>
                <a:latin typeface="ＭＳ Ｐゴシック"/>
              </a:rPr>
              <a:t>ＷｉｎｄｏｗｓＸＰによるＬＥＤの制御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265" name=""/>
          <p:cNvSpPr/>
          <p:nvPr/>
        </p:nvSpPr>
        <p:spPr>
          <a:xfrm>
            <a:off x="1047600" y="1124280"/>
            <a:ext cx="23752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マクロ（プログラム）画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195640" y="1700280"/>
            <a:ext cx="6626160" cy="489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7" name=""/>
          <p:cNvSpPr/>
          <p:nvPr/>
        </p:nvSpPr>
        <p:spPr>
          <a:xfrm>
            <a:off x="4067280" y="124128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「ツール」－「マクロ」－「編集」でマクロを表示する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51280" y="2421000"/>
            <a:ext cx="4897440" cy="1944720"/>
          </a:xfrm>
          <a:prstGeom prst="roundRect">
            <a:avLst>
              <a:gd name="adj" fmla="val 4898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9280" y="2276640"/>
            <a:ext cx="1908360" cy="1372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フォルダの中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「ＶＢＡ　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</a:rPr>
              <a:t>USB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宣言文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というテキストデー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があり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コピーして使用し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ください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35280" y="2708280"/>
            <a:ext cx="1944720" cy="14436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366920" y="404640"/>
            <a:ext cx="64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ff"/>
                </a:solidFill>
                <a:latin typeface="ＭＳ Ｐゴシック"/>
              </a:rPr>
              <a:t>ＷｉｎｄｏｗｓＸＰによるＬＥＤの制御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272" name=""/>
          <p:cNvSpPr/>
          <p:nvPr/>
        </p:nvSpPr>
        <p:spPr>
          <a:xfrm>
            <a:off x="744480" y="1124280"/>
            <a:ext cx="29847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マクロ（プログラム）例　　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8200" y="1844640"/>
            <a:ext cx="8066160" cy="47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ff0000"/>
                </a:solidFill>
                <a:uFillTx/>
                <a:latin typeface="ＭＳ Ｐゴシック"/>
              </a:rPr>
              <a:t>オブジェクト（Ｇ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ＭＳ Ｐゴシック"/>
              </a:rPr>
              <a:t>eneral</a:t>
            </a:r>
            <a:r>
              <a:rPr b="1" lang="zh-CN" sz="1600" spc="-1" strike="noStrike" u="sng">
                <a:solidFill>
                  <a:srgbClr val="ff0000"/>
                </a:solidFill>
                <a:uFillTx/>
                <a:latin typeface="ＭＳ Ｐゴシック"/>
              </a:rPr>
              <a:t>）、　プロシージャ（Ｄｅｃｌａｒａｔｉｏｎｓ）に記述し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Option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eclare Function uio_out Lib "</a:t>
            </a:r>
            <a:r>
              <a:rPr b="1" lang="en-US" sz="1200" spc="-1" strike="noStrike">
                <a:solidFill>
                  <a:srgbClr val="3333cc"/>
                </a:solidFill>
                <a:latin typeface="ＭＳ Ｐゴシック"/>
              </a:rPr>
              <a:t>vbausbio.dll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" (ByVal Port As Long, ByVal outDat As Long, ByVal p3 As Long) A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eclare Function uio_inp Lib "</a:t>
            </a:r>
            <a:r>
              <a:rPr b="1" lang="en-US" sz="1200" spc="-1" strike="noStrike">
                <a:solidFill>
                  <a:srgbClr val="3333cc"/>
                </a:solidFill>
                <a:latin typeface="ＭＳ Ｐゴシック"/>
              </a:rPr>
              <a:t>vbausbio.dll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" (ByRef InpDat As Byte, ByVal Port As Long, ByVal p3 As Long) A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eclare Function uio_find Lib "</a:t>
            </a:r>
            <a:r>
              <a:rPr b="1" lang="en-US" sz="1200" spc="-1" strike="noStrike">
                <a:solidFill>
                  <a:srgbClr val="3333cc"/>
                </a:solidFill>
                <a:latin typeface="ＭＳ Ｐゴシック"/>
              </a:rPr>
              <a:t>vbausbio.dll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" () A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eclare Function uio_free Lib "</a:t>
            </a:r>
            <a:r>
              <a:rPr b="1" lang="en-US" sz="1200" spc="-1" strike="noStrike">
                <a:solidFill>
                  <a:srgbClr val="3333cc"/>
                </a:solidFill>
                <a:latin typeface="ＭＳ Ｐゴシック"/>
              </a:rPr>
              <a:t>vbausbio.dll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" () A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eclare Function uio_getdevs Lib "</a:t>
            </a:r>
            <a:r>
              <a:rPr b="1" lang="en-US" sz="1200" spc="-1" strike="noStrike">
                <a:solidFill>
                  <a:srgbClr val="3333cc"/>
                </a:solidFill>
                <a:latin typeface="ＭＳ Ｐゴシック"/>
              </a:rPr>
              <a:t>vbausbio.dll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" () A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eclare Function uio_seldev Lib "</a:t>
            </a:r>
            <a:r>
              <a:rPr b="1" lang="en-US" sz="1200" spc="-1" strike="noStrike">
                <a:solidFill>
                  <a:srgbClr val="3333cc"/>
                </a:solidFill>
                <a:latin typeface="ＭＳ Ｐゴシック"/>
              </a:rPr>
              <a:t>vbausbio.dll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" (ByVal p1 As Long) A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eclare Sub Sleep Lib "</a:t>
            </a:r>
            <a:r>
              <a:rPr b="1" lang="en-US" sz="1200" spc="-1" strike="noStrike">
                <a:solidFill>
                  <a:srgbClr val="3333cc"/>
                </a:solidFill>
                <a:latin typeface="ＭＳ Ｐゴシック"/>
              </a:rPr>
              <a:t>kernel32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" (ByVal dwMilliseconds As Lo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im </a:t>
            </a:r>
            <a:r>
              <a:rPr b="1" lang="en-US" sz="1200" spc="-1" strike="noStrike">
                <a:solidFill>
                  <a:srgbClr val="3333cc"/>
                </a:solidFill>
                <a:latin typeface="ＭＳ Ｐゴシック"/>
              </a:rPr>
              <a:t>Ret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A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im </a:t>
            </a:r>
            <a:r>
              <a:rPr b="1" lang="zh-CN" sz="1200" spc="-1" strike="noStrike">
                <a:solidFill>
                  <a:srgbClr val="3333cc"/>
                </a:solidFill>
                <a:latin typeface="ＭＳ Ｐゴシック"/>
              </a:rPr>
              <a:t>基本スピー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s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im </a:t>
            </a:r>
            <a:r>
              <a:rPr b="1" lang="zh-CN" sz="1200" spc="-1" strike="noStrike">
                <a:solidFill>
                  <a:srgbClr val="3333cc"/>
                </a:solidFill>
                <a:latin typeface="ＭＳ Ｐゴシック"/>
              </a:rPr>
              <a:t>パターン数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s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im </a:t>
            </a:r>
            <a:r>
              <a:rPr b="1" lang="zh-CN" sz="1200" spc="-1" strike="noStrike">
                <a:solidFill>
                  <a:srgbClr val="3333cc"/>
                </a:solidFill>
                <a:latin typeface="ＭＳ Ｐゴシック"/>
              </a:rPr>
              <a:t>パターン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s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im </a:t>
            </a:r>
            <a:r>
              <a:rPr b="1" lang="zh-CN" sz="1200" spc="-1" strike="noStrike">
                <a:solidFill>
                  <a:srgbClr val="3333cc"/>
                </a:solidFill>
                <a:latin typeface="ＭＳ Ｐゴシック"/>
              </a:rPr>
              <a:t>繰返し回数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s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im </a:t>
            </a:r>
            <a:r>
              <a:rPr b="1" lang="zh-CN" sz="1200" spc="-1" strike="noStrike">
                <a:solidFill>
                  <a:srgbClr val="3333cc"/>
                </a:solidFill>
                <a:latin typeface="ＭＳ Ｐゴシック"/>
              </a:rPr>
              <a:t>繰返し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s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im </a:t>
            </a:r>
            <a:r>
              <a:rPr b="1" lang="zh-CN" sz="1200" spc="-1" strike="noStrike">
                <a:solidFill>
                  <a:srgbClr val="3333cc"/>
                </a:solidFill>
                <a:latin typeface="ＭＳ Ｐゴシック"/>
              </a:rPr>
              <a:t>数値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s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im </a:t>
            </a:r>
            <a:r>
              <a:rPr b="1" lang="zh-CN" sz="1200" spc="-1" strike="noStrike">
                <a:solidFill>
                  <a:srgbClr val="3333cc"/>
                </a:solidFill>
                <a:latin typeface="ＭＳ Ｐゴシック"/>
              </a:rPr>
              <a:t>時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s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im </a:t>
            </a:r>
            <a:r>
              <a:rPr b="1" lang="zh-CN" sz="1200" spc="-1" strike="noStrike">
                <a:solidFill>
                  <a:srgbClr val="3333cc"/>
                </a:solidFill>
                <a:latin typeface="ＭＳ Ｐゴシック"/>
              </a:rPr>
              <a:t>出力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As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im </a:t>
            </a:r>
            <a:r>
              <a:rPr b="1" lang="en-US" sz="1200" spc="-1" strike="noStrike">
                <a:solidFill>
                  <a:srgbClr val="3333cc"/>
                </a:solidFill>
                <a:latin typeface="ＭＳ Ｐゴシック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As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Dim </a:t>
            </a:r>
            <a:r>
              <a:rPr b="1" lang="en-US" sz="1200" spc="-1" strike="noStrike">
                <a:solidFill>
                  <a:srgbClr val="3333cc"/>
                </a:solidFill>
                <a:latin typeface="ＭＳ Ｐゴシック"/>
              </a:rPr>
              <a:t>tt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As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843280" y="4221000"/>
            <a:ext cx="144360" cy="19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00"/>
                </a:solidFill>
                <a:latin typeface="ＭＳ Ｐ明朝"/>
              </a:rPr>
              <a:t>｝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ＭＳ Ｐ明朝"/>
              <a:ea typeface="ＭＳ Ｐ明朝"/>
            </a:endParaRPr>
          </a:p>
        </p:txBody>
      </p:sp>
      <p:sp>
        <p:nvSpPr>
          <p:cNvPr id="275" name=""/>
          <p:cNvSpPr/>
          <p:nvPr/>
        </p:nvSpPr>
        <p:spPr>
          <a:xfrm>
            <a:off x="3132000" y="496728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変数</a:t>
            </a: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を使用する場合は定義が必要とな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05640" y="329256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3333cc"/>
                </a:solidFill>
                <a:latin typeface="Times New Roman"/>
              </a:rPr>
              <a:t>ｄｌｌ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”ファイルを使用するため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</a:rPr>
              <a:t>宣言文が必要となりま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366920" y="404640"/>
            <a:ext cx="64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ff"/>
                </a:solidFill>
                <a:latin typeface="ＭＳ Ｐゴシック"/>
              </a:rPr>
              <a:t>ＷｉｎｄｏｗｓＸＰによるＬＥＤの制御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278" name=""/>
          <p:cNvSpPr/>
          <p:nvPr/>
        </p:nvSpPr>
        <p:spPr>
          <a:xfrm>
            <a:off x="745920" y="1124280"/>
            <a:ext cx="29847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マクロ（プログラム）例　　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78560" y="5948280"/>
            <a:ext cx="3241440" cy="7556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ＤＨＰ特太ゴシック体"/>
              </a:rPr>
              <a:t>重要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　出力命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t = uio_out(0, 255 -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数値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8360" y="1749600"/>
            <a:ext cx="8424720" cy="502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Sub </a:t>
            </a:r>
            <a:r>
              <a:rPr b="1" lang="zh-CN" sz="1200" spc="-1" strike="noStrike">
                <a:solidFill>
                  <a:srgbClr val="000000"/>
                </a:solidFill>
                <a:latin typeface="ＭＳ Ｐゴシック"/>
              </a:rPr>
              <a:t>自動実行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zh-CN" sz="1200" spc="-1" strike="noStrike">
                <a:solidFill>
                  <a:srgbClr val="cc0099"/>
                </a:solidFill>
                <a:latin typeface="ＭＳ Ｐゴシック"/>
              </a:rPr>
              <a:t>基本スピー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= Range("n4").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ＭＳ Ｐゴシック"/>
              </a:rPr>
              <a:t>パターン数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= Range("l4").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zh-CN" sz="1200" spc="-1" strike="noStrike">
                <a:solidFill>
                  <a:srgbClr val="ff9900"/>
                </a:solidFill>
                <a:latin typeface="ＭＳ Ｐゴシック"/>
              </a:rPr>
              <a:t>繰返し回数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= Range("m4").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zh-CN" sz="1200" spc="-1" strike="noStrike">
                <a:solidFill>
                  <a:srgbClr val="5f5f5f"/>
                </a:solidFill>
                <a:latin typeface="ＭＳ Ｐゴシック"/>
              </a:rPr>
              <a:t>出力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= Range("b1").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200" spc="-1" strike="noStrike">
                <a:solidFill>
                  <a:srgbClr val="3333cc"/>
                </a:solidFill>
                <a:latin typeface="ＭＳ Ｐゴシック"/>
              </a:rPr>
              <a:t>For </a:t>
            </a:r>
            <a:r>
              <a:rPr b="1" lang="zh-CN" sz="1200" spc="-1" strike="noStrike">
                <a:solidFill>
                  <a:srgbClr val="3333cc"/>
                </a:solidFill>
                <a:latin typeface="ＭＳ Ｐゴシック"/>
              </a:rPr>
              <a:t>繰返し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= 1 </a:t>
            </a:r>
            <a:r>
              <a:rPr b="1" lang="en-US" sz="1200" spc="-1" strike="noStrike">
                <a:solidFill>
                  <a:srgbClr val="3333cc"/>
                </a:solidFill>
                <a:latin typeface="ＭＳ Ｐゴシック"/>
              </a:rPr>
              <a:t>To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zh-CN" sz="1200" spc="-1" strike="noStrike">
                <a:solidFill>
                  <a:srgbClr val="ff9900"/>
                </a:solidFill>
                <a:latin typeface="ＭＳ Ｐゴシック"/>
              </a:rPr>
              <a:t>繰返し回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  </a:t>
            </a:r>
            <a:r>
              <a:rPr b="1" lang="zh-CN" sz="1200" spc="-1" strike="noStrike">
                <a:solidFill>
                  <a:srgbClr val="000000"/>
                </a:solidFill>
                <a:latin typeface="ＭＳ Ｐゴシック"/>
              </a:rPr>
              <a:t>　 </a:t>
            </a:r>
            <a:r>
              <a:rPr b="1" lang="en-US" sz="1200" spc="-1" strike="noStrike">
                <a:solidFill>
                  <a:srgbClr val="00cc66"/>
                </a:solidFill>
                <a:latin typeface="ＭＳ Ｐゴシック"/>
              </a:rPr>
              <a:t>For </a:t>
            </a:r>
            <a:r>
              <a:rPr b="1" lang="zh-CN" sz="1200" spc="-1" strike="noStrike">
                <a:solidFill>
                  <a:srgbClr val="00cc66"/>
                </a:solidFill>
                <a:latin typeface="ＭＳ Ｐゴシック"/>
              </a:rPr>
              <a:t>パターン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= 1 </a:t>
            </a:r>
            <a:r>
              <a:rPr b="1" lang="en-US" sz="1200" spc="-1" strike="noStrike">
                <a:solidFill>
                  <a:srgbClr val="00cc66"/>
                </a:solidFill>
                <a:latin typeface="ＭＳ Ｐゴシック"/>
              </a:rPr>
              <a:t>To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ＭＳ Ｐゴシック"/>
              </a:rPr>
              <a:t>パターン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ＭＳ Ｐゴシック"/>
              </a:rPr>
              <a:t>　　　　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Range("l6").Value = </a:t>
            </a:r>
            <a:r>
              <a:rPr b="1" lang="zh-CN" sz="1200" spc="-1" strike="noStrike">
                <a:solidFill>
                  <a:srgbClr val="000000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   </a:t>
            </a:r>
            <a:r>
              <a:rPr b="1" lang="zh-CN" sz="1200" spc="-1" strike="noStrike">
                <a:solidFill>
                  <a:srgbClr val="000000"/>
                </a:solidFill>
                <a:latin typeface="ＭＳ Ｐゴシック"/>
              </a:rPr>
              <a:t>　　　</a:t>
            </a:r>
            <a:r>
              <a:rPr b="1" lang="zh-CN" sz="1200" spc="-1" strike="noStrike">
                <a:solidFill>
                  <a:srgbClr val="ff0000"/>
                </a:solidFill>
                <a:latin typeface="ＭＳ Ｐゴシック"/>
              </a:rPr>
              <a:t>数値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= Range("m6").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   </a:t>
            </a:r>
            <a:r>
              <a:rPr b="1" lang="zh-CN" sz="1200" spc="-1" strike="noStrike">
                <a:solidFill>
                  <a:srgbClr val="000000"/>
                </a:solidFill>
                <a:latin typeface="ＭＳ Ｐゴシック"/>
              </a:rPr>
              <a:t>　　　</a:t>
            </a:r>
            <a:r>
              <a:rPr b="1" lang="zh-CN" sz="1200" spc="-1" strike="noStrike">
                <a:solidFill>
                  <a:srgbClr val="cccc00"/>
                </a:solidFill>
                <a:latin typeface="ＭＳ Ｐゴシック"/>
              </a:rPr>
              <a:t>時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= Range("n6").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1" lang="zh-CN" sz="1200" spc="-1" strike="noStrike">
                <a:solidFill>
                  <a:srgbClr val="000000"/>
                </a:solidFill>
                <a:latin typeface="ＭＳ Ｐゴシック"/>
              </a:rPr>
              <a:t>　　　　　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If </a:t>
            </a:r>
            <a:r>
              <a:rPr b="1" lang="zh-CN" sz="1200" spc="-1" strike="noStrike">
                <a:solidFill>
                  <a:srgbClr val="5f5f5f"/>
                </a:solidFill>
                <a:latin typeface="ＭＳ Ｐゴシック"/>
              </a:rPr>
              <a:t>出力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= 1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ＭＳ Ｐゴシック"/>
              </a:rPr>
              <a:t>　　　　　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Call </a:t>
            </a:r>
            <a:r>
              <a:rPr b="1" lang="zh-CN" sz="1200" spc="-1" strike="noStrike">
                <a:solidFill>
                  <a:srgbClr val="000000"/>
                </a:solidFill>
                <a:latin typeface="ＭＳ Ｐゴシック"/>
              </a:rPr>
              <a:t>基盤出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ＭＳ Ｐゴシック"/>
              </a:rPr>
              <a:t>　　　　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End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ＭＳ Ｐゴシック"/>
              </a:rPr>
              <a:t>　　　　　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For t = 0 To </a:t>
            </a:r>
            <a:r>
              <a:rPr b="1" lang="zh-CN" sz="1200" spc="-1" strike="noStrike">
                <a:solidFill>
                  <a:srgbClr val="cccc00"/>
                </a:solidFill>
                <a:latin typeface="ＭＳ Ｐゴシック"/>
              </a:rPr>
              <a:t>時間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: For tt = 0 To </a:t>
            </a:r>
            <a:r>
              <a:rPr b="1" lang="zh-CN" sz="1200" spc="-1" strike="noStrike">
                <a:solidFill>
                  <a:srgbClr val="cc0099"/>
                </a:solidFill>
                <a:latin typeface="ＭＳ Ｐゴシック"/>
              </a:rPr>
              <a:t>基本スピード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* 100: Next tt: Next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   </a:t>
            </a:r>
            <a:r>
              <a:rPr b="1" lang="zh-CN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en-US" sz="1200" spc="-1" strike="noStrike">
                <a:solidFill>
                  <a:srgbClr val="00cc66"/>
                </a:solidFill>
                <a:latin typeface="ＭＳ Ｐゴシック"/>
              </a:rPr>
              <a:t>Next </a:t>
            </a:r>
            <a:r>
              <a:rPr b="1" lang="zh-CN" sz="1200" spc="-1" strike="noStrike">
                <a:solidFill>
                  <a:srgbClr val="00cc66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ＭＳ Ｐゴシック"/>
              </a:rPr>
              <a:t>Next </a:t>
            </a:r>
            <a:r>
              <a:rPr b="1" lang="zh-CN" sz="1200" spc="-1" strike="noStrike">
                <a:solidFill>
                  <a:srgbClr val="3333cc"/>
                </a:solidFill>
                <a:latin typeface="ＭＳ Ｐゴシック"/>
              </a:rPr>
              <a:t>繰返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End 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Sub </a:t>
            </a:r>
            <a:r>
              <a:rPr b="1" lang="zh-CN" sz="1200" spc="-1" strike="noStrike">
                <a:solidFill>
                  <a:srgbClr val="000000"/>
                </a:solidFill>
                <a:latin typeface="ＭＳ Ｐゴシック"/>
              </a:rPr>
              <a:t>基盤出力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Ret = uio_out(0, 255 - </a:t>
            </a:r>
            <a:r>
              <a:rPr b="1" lang="zh-CN" sz="1200" spc="-1" strike="noStrike">
                <a:solidFill>
                  <a:srgbClr val="ff0000"/>
                </a:solidFill>
                <a:latin typeface="ＭＳ Ｐゴシック"/>
              </a:rPr>
              <a:t>数値</a:t>
            </a: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, 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Ｐゴシック"/>
              </a:rPr>
              <a:t>End 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59280" y="2205000"/>
            <a:ext cx="142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00"/>
                </a:solidFill>
                <a:latin typeface="ＭＳ Ｐ明朝"/>
              </a:rPr>
              <a:t>｝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ＭＳ Ｐ明朝"/>
              <a:ea typeface="ＭＳ Ｐ明朝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59280" y="3068640"/>
            <a:ext cx="144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00"/>
                </a:solidFill>
                <a:latin typeface="ＭＳ Ｐ明朝"/>
              </a:rPr>
              <a:t>｝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ＭＳ Ｐ明朝"/>
              <a:ea typeface="ＭＳ Ｐ明朝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411280" y="4149720"/>
            <a:ext cx="144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ＭＳ Ｐ明朝"/>
              </a:rPr>
              <a:t>｝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ＭＳ Ｐ明朝"/>
              <a:ea typeface="ＭＳ Ｐ明朝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843280" y="6118200"/>
            <a:ext cx="131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00"/>
                </a:solidFill>
                <a:latin typeface="ＭＳ Ｐ明朝"/>
              </a:rPr>
              <a:t>｝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latin typeface="ＭＳ Ｐ明朝"/>
              <a:ea typeface="ＭＳ Ｐ明朝"/>
            </a:endParaRPr>
          </a:p>
        </p:txBody>
      </p:sp>
      <p:sp>
        <p:nvSpPr>
          <p:cNvPr id="285" name=""/>
          <p:cNvSpPr/>
          <p:nvPr/>
        </p:nvSpPr>
        <p:spPr>
          <a:xfrm>
            <a:off x="3652920" y="2101680"/>
            <a:ext cx="351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ｎ４のセルの値を</a:t>
            </a:r>
            <a:r>
              <a:rPr b="1" lang="zh-CN" sz="1200" spc="-1" strike="noStrike">
                <a:solidFill>
                  <a:srgbClr val="cc0099"/>
                </a:solidFill>
                <a:latin typeface="ＭＳ ゴシック"/>
                <a:ea typeface="ＭＳ ゴシック"/>
              </a:rPr>
              <a:t>基本スピード</a:t>
            </a: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とし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l</a:t>
            </a: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４のセルの値をパターン数とし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ｍ４のセルの値を</a:t>
            </a:r>
            <a:r>
              <a:rPr b="1" lang="zh-CN" sz="1200" spc="-1" strike="noStrike">
                <a:solidFill>
                  <a:srgbClr val="ff9900"/>
                </a:solidFill>
                <a:latin typeface="ＭＳ ゴシック"/>
                <a:ea typeface="ＭＳ ゴシック"/>
              </a:rPr>
              <a:t>繰返し回数</a:t>
            </a: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とし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ｎ４のセルの値を</a:t>
            </a:r>
            <a:r>
              <a:rPr b="1" lang="zh-CN" sz="1200" spc="-1" strike="noStrike">
                <a:solidFill>
                  <a:srgbClr val="5f5f5f"/>
                </a:solidFill>
                <a:latin typeface="ＭＳ ゴシック"/>
                <a:ea typeface="ＭＳ ゴシック"/>
              </a:rPr>
              <a:t>出力</a:t>
            </a: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とし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5877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448240" y="4906800"/>
            <a:ext cx="1317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ＭＳ Ｐ明朝"/>
              </a:rPr>
              <a:t>｝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ＭＳ Ｐ明朝"/>
              <a:ea typeface="ＭＳ Ｐ明朝"/>
            </a:endParaRPr>
          </a:p>
        </p:txBody>
      </p:sp>
      <p:sp>
        <p:nvSpPr>
          <p:cNvPr id="288" name=""/>
          <p:cNvSpPr/>
          <p:nvPr/>
        </p:nvSpPr>
        <p:spPr>
          <a:xfrm>
            <a:off x="3652920" y="3038400"/>
            <a:ext cx="4232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9900"/>
                </a:solidFill>
                <a:latin typeface="ＭＳ ゴシック"/>
                <a:ea typeface="ＭＳ ゴシック"/>
              </a:rPr>
              <a:t>繰返し回数</a:t>
            </a: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分だけの一連の処理を繰り返し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パターン１～パターン数までを処理し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　</a:t>
            </a:r>
            <a:r>
              <a:rPr b="1" lang="en-US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l</a:t>
            </a: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６のセルにパターンの値を書き込み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　ｍ６のセルの値を</a:t>
            </a:r>
            <a:r>
              <a:rPr b="1" lang="zh-CN" sz="1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数値</a:t>
            </a: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とし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　ｎ４のセルの値を</a:t>
            </a:r>
            <a:r>
              <a:rPr b="1" lang="zh-CN" sz="1200" spc="-1" strike="noStrike">
                <a:solidFill>
                  <a:srgbClr val="cccc00"/>
                </a:solidFill>
                <a:latin typeface="ＭＳ ゴシック"/>
                <a:ea typeface="ＭＳ ゴシック"/>
              </a:rPr>
              <a:t>時間</a:t>
            </a: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とし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0840" y="4775040"/>
            <a:ext cx="3089160" cy="459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99"/>
                </a:solidFill>
                <a:latin typeface="ＭＳ ゴシック"/>
                <a:ea typeface="ＭＳ ゴシック"/>
              </a:rPr>
              <a:t>基本スピード</a:t>
            </a: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と</a:t>
            </a:r>
            <a:r>
              <a:rPr b="1" lang="zh-CN" sz="1200" spc="-1" strike="noStrike">
                <a:solidFill>
                  <a:srgbClr val="cccc00"/>
                </a:solidFill>
                <a:latin typeface="ＭＳ ゴシック"/>
                <a:ea typeface="ＭＳ ゴシック"/>
              </a:rPr>
              <a:t>時間</a:t>
            </a: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の数値により、次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命令を処理するまでの時間をかせぎ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04280" y="6067440"/>
            <a:ext cx="433800" cy="459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数値</a:t>
            </a: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に応じて、ＬＥＤを表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します。（電気信号を送る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47200" y="4186080"/>
            <a:ext cx="2262600" cy="459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もし、</a:t>
            </a:r>
            <a:r>
              <a:rPr b="1" lang="zh-CN" sz="1200" spc="-1" strike="noStrike">
                <a:solidFill>
                  <a:srgbClr val="5f5f5f"/>
                </a:solidFill>
                <a:latin typeface="ＭＳ ゴシック"/>
                <a:ea typeface="ＭＳ ゴシック"/>
              </a:rPr>
              <a:t>出力</a:t>
            </a: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が１の場合（基盤への出力が「有」の場合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ＭＳ ゴシック"/>
                <a:ea typeface="ＭＳ ゴシック"/>
              </a:rPr>
              <a:t>基盤出力のマクロを実行し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27280" y="4437000"/>
            <a:ext cx="6494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80000" y="5013360"/>
            <a:ext cx="144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87640" y="6308640"/>
            <a:ext cx="144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3:58:36Z</dcterms:created>
  <dc:creator> 野原弘康</dc:creator>
  <dc:description/>
  <dc:language>en-US</dc:language>
  <cp:lastModifiedBy>center</cp:lastModifiedBy>
  <dcterms:modified xsi:type="dcterms:W3CDTF">2006-03-09T14:42:33Z</dcterms:modified>
  <cp:revision>51</cp:revision>
  <dc:subject/>
  <dc:title>PowerPoint プレゼンテーション</dc:title>
</cp:coreProperties>
</file>